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53DD-FC67-4BBA-B3CA-2DC3941D3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EAB5-B979-4B2F-9B5E-D13229142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A7E2-C126-4133-8149-DBE8FF750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2F81-BD92-4988-A7FD-7D675C6DF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A374-3003-4087-9648-8FBBB3237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7DBC-F162-4116-B7FE-39C72C285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BFC1-EA54-44C8-A889-CAE75C36E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6423-1796-4FD1-B6CE-999D74613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D3A4-1857-4A9D-A979-CAC2BFAC0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976C-E1DA-4CAC-A527-96E5CA7E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EB48-D83C-4E33-96D1-80E446C9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BC26-3AE9-43AC-93ED-5E944B42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80897"/>
          <p:cNvSpPr/>
          <p:nvPr/>
        </p:nvSpPr>
        <p:spPr>
          <a:xfrm>
            <a:off x="29052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矩形 80898"/>
          <p:cNvSpPr/>
          <p:nvPr/>
        </p:nvSpPr>
        <p:spPr>
          <a:xfrm>
            <a:off x="67320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矩形 80899"/>
          <p:cNvSpPr/>
          <p:nvPr/>
        </p:nvSpPr>
        <p:spPr>
          <a:xfrm>
            <a:off x="41436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矩形 80900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矩形 80901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矩形 80902"/>
          <p:cNvSpPr/>
          <p:nvPr/>
        </p:nvSpPr>
        <p:spPr>
          <a:xfrm>
            <a:off x="63504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矩形 80903"/>
          <p:cNvSpPr/>
          <p:nvPr/>
        </p:nvSpPr>
        <p:spPr>
          <a:xfrm>
            <a:off x="268200" y="78264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60341-0BE9-4F52-BA7A-A0A2B38F5DD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组合 81921"/>
          <p:cNvGrpSpPr/>
          <p:nvPr/>
        </p:nvGrpSpPr>
        <p:grpSpPr>
          <a:xfrm>
            <a:off x="0" y="0"/>
            <a:ext cx="9009000" cy="1052640"/>
            <a:chOff x="0" y="0"/>
            <a:chExt cx="9009000" cy="1052640"/>
          </a:xfrm>
        </p:grpSpPr>
        <p:grpSp>
          <p:nvGrpSpPr>
            <p:cNvPr id="47" name="组合 81922"/>
            <p:cNvGrpSpPr/>
            <p:nvPr/>
          </p:nvGrpSpPr>
          <p:grpSpPr>
            <a:xfrm>
              <a:off x="290520" y="108000"/>
              <a:ext cx="711360" cy="474840"/>
              <a:chOff x="290520" y="108000"/>
              <a:chExt cx="711360" cy="474840"/>
            </a:xfrm>
          </p:grpSpPr>
          <p:sp>
            <p:nvSpPr>
              <p:cNvPr id="48" name="矩形 81923"/>
              <p:cNvSpPr/>
              <p:nvPr/>
            </p:nvSpPr>
            <p:spPr>
              <a:xfrm>
                <a:off x="290520" y="10800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" name="矩形 81924"/>
              <p:cNvSpPr/>
              <p:nvPr/>
            </p:nvSpPr>
            <p:spPr>
              <a:xfrm>
                <a:off x="673560" y="10800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0" name="组合 81925"/>
            <p:cNvGrpSpPr/>
            <p:nvPr/>
          </p:nvGrpSpPr>
          <p:grpSpPr>
            <a:xfrm>
              <a:off x="414360" y="530280"/>
              <a:ext cx="737640" cy="474840"/>
              <a:chOff x="414360" y="530280"/>
              <a:chExt cx="737640" cy="474840"/>
            </a:xfrm>
          </p:grpSpPr>
          <p:sp>
            <p:nvSpPr>
              <p:cNvPr id="51" name="矩形 81926"/>
              <p:cNvSpPr/>
              <p:nvPr/>
            </p:nvSpPr>
            <p:spPr>
              <a:xfrm>
                <a:off x="414360" y="53028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矩形 81927"/>
              <p:cNvSpPr/>
              <p:nvPr/>
            </p:nvSpPr>
            <p:spPr>
              <a:xfrm>
                <a:off x="783000" y="53028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3" name="矩形 81928"/>
            <p:cNvSpPr/>
            <p:nvPr/>
          </p:nvSpPr>
          <p:spPr>
            <a:xfrm>
              <a:off x="0" y="4572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矩形 81929"/>
            <p:cNvSpPr/>
            <p:nvPr/>
          </p:nvSpPr>
          <p:spPr>
            <a:xfrm>
              <a:off x="63504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矩形 81930"/>
            <p:cNvSpPr/>
            <p:nvPr/>
          </p:nvSpPr>
          <p:spPr>
            <a:xfrm flipV="1">
              <a:off x="316080" y="8222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hyperlink" Target="Examples/form7.htm" TargetMode="External"/><Relationship Id="rId2" Type="http://schemas.openxmlformats.org/officeDocument/2006/relationships/slideLayout" Target="../slideLayouts/slideLayout1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Examples/11_&#25968;&#25454;&#31867;&#22411;&#33258;&#21160;&#36716;&#25442;.htm" TargetMode="External"/><Relationship Id="rId3" Type="http://schemas.openxmlformats.org/officeDocument/2006/relationships/slideLayout" Target="../slideLayouts/slideLayout1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hyperlink" Target="Examples/form8.htm" TargetMode="External"/><Relationship Id="rId8" Type="http://schemas.openxmlformats.org/officeDocument/2006/relationships/hyperlink" Target="Examples/form8.htm" TargetMode="External"/><Relationship Id="rId9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Examples/12_&#25968;&#25454;&#31867;&#22411;&#36716;&#25442;&#20989;&#25968;.htm" TargetMode="External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Examples/13_&#27604;&#36739;&#36816;&#31639;&#31526;.htm" TargetMode="External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Examples/14_&#31639;&#26415;&#36816;&#31639;&#31526;.htm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Examples/15_&#26465;&#20214;&#36816;&#31639;&#31526;.htm" TargetMode="External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Examples/16_delete&#36816;&#31639;&#31526;.htm" TargetMode="External"/><Relationship Id="rId2" Type="http://schemas.openxmlformats.org/officeDocument/2006/relationships/hyperlink" Target="Examples/17_typeof&#36816;&#31639;&#31526;.htm" TargetMode="External"/><Relationship Id="rId3" Type="http://schemas.openxmlformats.org/officeDocument/2006/relationships/hyperlink" Target="Examples/18_this&#36816;&#31639;&#31526;.htm" TargetMode="External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Examples/19_if&#35821;&#21477;.htm" TargetMode="External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Examples\for_in.htm" TargetMode="External"/><Relationship Id="rId2" Type="http://schemas.openxmlformats.org/officeDocument/2006/relationships/hyperlink" Target="Examples\110_FOR IN&#35821;&#21477;.HTM" TargetMode="External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Examples\&#21028;&#26029;&#32032;&#25968;.htm" TargetMode="External"/><Relationship Id="rId5" Type="http://schemas.openxmlformats.org/officeDocument/2006/relationships/hyperlink" Target="Examples\&#21028;&#26029;&#28070;&#24180;.htm" TargetMode="External"/><Relationship Id="rId6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Examples/&#20107;&#20214;&#22788;&#29702;1.htm" TargetMode="External"/><Relationship Id="rId3" Type="http://schemas.openxmlformats.org/officeDocument/2006/relationships/image" Target="../media/image1.png"/><Relationship Id="rId4" Type="http://schemas.openxmlformats.org/officeDocument/2006/relationships/hyperlink" Target="Examples/&#20107;&#20214;&#22788;&#29702;2.htm" TargetMode="External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Examples/&#20107;&#20214;&#22788;&#29702;3.htm" TargetMode="External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Examples/&#20107;&#20214;&#22788;&#29702;4.htm" TargetMode="External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-1,-1,NEXT" TargetMode="External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-1,-1,PREV" TargetMode="External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Examples/25_&#29992;&#25143;&#33258;&#23450;&#20041;&#23545;&#35937;.htm" TargetMode="External"/><Relationship Id="rId2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Examples/26_&#20316;&#19994;1.htm" TargetMode="External"/><Relationship Id="rId2" Type="http://schemas.openxmlformats.org/officeDocument/2006/relationships/hyperlink" Target="Examples/26_&#20316;&#19994;2.htm" TargetMode="External"/><Relationship Id="rId3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Examples/&#35821;&#27861;1.HTM" TargetMode="External"/><Relationship Id="rId3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325,68,&#24187;&#28783;&#29255; 68" TargetMode="External"/><Relationship Id="rId5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hyperlink" Target="-1,-1,PREV" TargetMode="External"/><Relationship Id="rId2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Examples/&#35821;&#27861;2.htm" TargetMode="External"/><Relationship Id="rId3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Examples/DOCUMENT1.HTM" TargetMode="External"/><Relationship Id="rId4" Type="http://schemas.openxmlformats.org/officeDocument/2006/relationships/hyperlink" Target="Examples/DOCUMENT1.HTM" TargetMode="External"/><Relationship Id="rId5" Type="http://schemas.openxmlformats.org/officeDocument/2006/relationships/hyperlink" Target="Examples/DOCUMENT2.HTM" TargetMode="External"/><Relationship Id="rId6" Type="http://schemas.openxmlformats.org/officeDocument/2006/relationships/hyperlink" Target="Examples/DOCUMENT2.HTM" TargetMode="External"/><Relationship Id="rId7" Type="http://schemas.openxmlformats.org/officeDocument/2006/relationships/slideLayout" Target="../slideLayouts/slideLayout1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hyperlink" Target="Examples/LINKS.HTM" TargetMode="External"/><Relationship Id="rId6" Type="http://schemas.openxmlformats.org/officeDocument/2006/relationships/hyperlink" Target="Examples/LINKS.HTM" TargetMode="External"/><Relationship Id="rId7" Type="http://schemas.openxmlformats.org/officeDocument/2006/relationships/slideLayout" Target="../slideLayouts/slideLayout1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Examples/form1.HTM" TargetMode="External"/><Relationship Id="rId2" Type="http://schemas.openxmlformats.org/officeDocument/2006/relationships/slideLayout" Target="../slideLayouts/slideLayout1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hyperlink" Target="Examples/form5.htm" TargetMode="Externa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文本框 103429"/>
          <p:cNvSpPr/>
          <p:nvPr/>
        </p:nvSpPr>
        <p:spPr>
          <a:xfrm>
            <a:off x="1042920" y="26028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宋体"/>
              </a:rPr>
              <a:t>动态网页脚本语言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Java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文本框 103430"/>
          <p:cNvSpPr/>
          <p:nvPr/>
        </p:nvSpPr>
        <p:spPr>
          <a:xfrm>
            <a:off x="826920" y="1268280"/>
            <a:ext cx="74901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     </a:t>
            </a:r>
            <a:r>
              <a:rPr b="0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主要内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概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编程基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事件驱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内置对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浏览器对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文本框 113665"/>
          <p:cNvSpPr/>
          <p:nvPr/>
        </p:nvSpPr>
        <p:spPr>
          <a:xfrm>
            <a:off x="324000" y="1628640"/>
            <a:ext cx="856908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数值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(Number)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包含整数或浮点数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逻辑值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(Logical)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取值为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e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或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lse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字符串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(String)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用单引号或双引号括起来的零个或多个单一的字符所组成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空值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(null)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示没有值，取唯一值”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ll”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，大小写敏感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未定义值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(undefined)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示尚未定义值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注：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null</a:t>
            </a:r>
            <a:r>
              <a:rPr b="0" i="1" lang="zh-CN" sz="2800" spc="-1" strike="noStrike">
                <a:solidFill>
                  <a:srgbClr val="ff0000"/>
                </a:solidFill>
                <a:latin typeface="Tahoma"/>
                <a:ea typeface="宋体"/>
              </a:rPr>
              <a:t>不能写成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Null</a:t>
            </a:r>
            <a:r>
              <a:rPr b="0" i="1" lang="zh-CN" sz="2800" spc="-1" strike="noStrike">
                <a:solidFill>
                  <a:srgbClr val="ff0000"/>
                </a:solidFill>
                <a:latin typeface="Tahoma"/>
                <a:ea typeface="宋体"/>
              </a:rPr>
              <a:t>或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NULL</a:t>
            </a:r>
            <a:r>
              <a:rPr b="0" i="1" lang="zh-CN" sz="2800" spc="-1" strike="noStrike">
                <a:solidFill>
                  <a:srgbClr val="ff0000"/>
                </a:solidFill>
                <a:latin typeface="Tahoma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null</a:t>
            </a:r>
            <a:r>
              <a:rPr b="0" i="1" lang="zh-CN" sz="2800" spc="-1" strike="noStrike">
                <a:solidFill>
                  <a:srgbClr val="ff0000"/>
                </a:solidFill>
                <a:latin typeface="Tahoma"/>
                <a:ea typeface="宋体"/>
              </a:rPr>
              <a:t>既不等于“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0”</a:t>
            </a:r>
            <a:r>
              <a:rPr b="0" i="1" lang="zh-CN" sz="2800" spc="-1" strike="noStrike">
                <a:solidFill>
                  <a:srgbClr val="ff0000"/>
                </a:solidFill>
                <a:latin typeface="Tahoma"/>
                <a:ea typeface="宋体"/>
              </a:rPr>
              <a:t>，也不等于“空字符串”。因为“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0”</a:t>
            </a:r>
            <a:r>
              <a:rPr b="0" i="1" lang="zh-CN" sz="2800" spc="-1" strike="noStrike">
                <a:solidFill>
                  <a:srgbClr val="ff0000"/>
                </a:solidFill>
                <a:latin typeface="Tahoma"/>
                <a:ea typeface="宋体"/>
              </a:rPr>
              <a:t>是数值，“空字符串”是字符串。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文本框 113666"/>
          <p:cNvSpPr/>
          <p:nvPr/>
        </p:nvSpPr>
        <p:spPr>
          <a:xfrm>
            <a:off x="250920" y="105264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数据类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文本框 113667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文本框 216065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当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JavaScrip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读到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&lt;INPUT&gt;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标记中的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ype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属性值为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radio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时，自动建立一个单选按钮对象，并将该对象放到表单对象的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elements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数组当中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使用按钮对象的格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cument.forms[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索引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.elements[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索引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.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属性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cument.forms[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索引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.elements[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索引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.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方法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参数群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或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单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单选按钮对象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单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单选按钮对象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方法（参数群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文本框 216066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单选按钮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0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1" dur="5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文本框 217089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checked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设置该对象的选取状态，为一个布尔变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defaultChecked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对应该对象的默认选取状态，为一个布尔变量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nam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按钮对象的名字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NAM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value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按钮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值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form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按钮所在的表单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方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blur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（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把焦点从该对象上移开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focus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（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把焦点移到该对象上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click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（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在该对象上单击鼠标左键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文本框 217090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单选按钮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2" dur="indefinite" restart="never" nodeType="tmRoot">
          <p:childTnLst>
            <p:seq>
              <p:cTn id="913" dur="indefinite" nodeType="mainSeq">
                <p:childTnLst>
                  <p:par>
                    <p:cTn id="914" fill="hold">
                      <p:stCondLst>
                        <p:cond delay="0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8" dur="5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文本框 218113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事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Blur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Focus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Click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DblClick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Down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Press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U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Over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U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Ou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Down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Mo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文本框 218114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单选按钮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0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5" dur="5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文本框 220161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当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JavaScrip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读到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&lt;INPUT&gt;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标记中的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ype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属性值为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checkbox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时，自动建立一个复选框对象，并将该对象放到表单对象的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elements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数组当中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使用复选框对象的格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cument.forms[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索引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.elements[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索引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.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属性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cument.forms[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索引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.elements[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索引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.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方法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参数群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或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单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复选框对象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单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复选框对象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方法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参数群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文本框 220162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复选框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2" dur="5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文本框 221185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checked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设置该对象的选取状态，为一个布尔变量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defaultChecked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对应该对象的默认选取状态，为一个布尔变量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name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按钮对象的名字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NAM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value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按钮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值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form  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按钮所在的表单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方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blur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（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把焦点从该对象上移开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focus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（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把焦点移到该对象上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click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（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再该对象上单击鼠标左键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文本框 221186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复选框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9" dur="5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文本框 222209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事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Blur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Focus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Click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DblClick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Down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Press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U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Over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U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Ou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Down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Mo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文本框 222210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复选框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0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6" dur="5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文本框 223233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5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举例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选择颜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lt;Scrip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unction count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r checkCount=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r num = document.form1.elements.length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r (var i=0; i&lt;num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f (document.form1.elements[i].check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eckCount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lert ("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你喜欢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"+ checkCount + "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种颜色。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lt;/Scrip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lt;FORM NAME=form1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请选择你喜欢的颜色：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lt;BR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lt;INPUT TYPE="checkbox" NAME="red"&gt;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红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lt;INPUT TYPE="checkbox" NAME="green"&gt;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绿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lt;INPUT TYPE="checkbox" NAME="blue"&gt;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蓝色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lt;BR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lt;INPUT TYPE="button" VALUE="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请单击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" onClick=count()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lt;/FORM&gt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</a:t>
            </a:r>
            <a:r>
              <a:rPr b="0" lang="zh-CN" sz="20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1"/>
              </a:rPr>
              <a:t>运行结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文本框 223234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复选框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0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3" dur="5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文本框 224257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当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JavaScrip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读到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&lt;SELECT&gt;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标记时，自动建立一个选择对象，并将该对象放到表单对象的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elements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数组当中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使用选择对象的格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forms[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索引值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].elements[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索引值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]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forms[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索引值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].elements[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索引值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]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方法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参数群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或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单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选择对象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单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选择对象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方法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参数群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文本框 224258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选择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4" dur="indefinite" restart="never" nodeType="tmRoot">
          <p:childTnLst>
            <p:seq>
              <p:cTn id="955" dur="indefinite" nodeType="mainSeq">
                <p:childTnLst>
                  <p:par>
                    <p:cTn id="956" fill="hold">
                      <p:stCondLst>
                        <p:cond delay="0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0" dur="5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文本框 225281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form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该对象所在的表单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length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代表列表中选项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Option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的数目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name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该对象的名字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NAM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options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对应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TM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语法中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&lt;OPTION&gt;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标记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selectedIndex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代表所选择项目的索引值（选到第一项，返回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方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blur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（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把焦点从该对象上移开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focus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（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把焦点移到该对象上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文本框 225282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选择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fill="hold">
                      <p:stCondLst>
                        <p:cond delay="0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7" dur="5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文本框 226305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事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Blur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Focus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Click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DblClick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Down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Press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U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Over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U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Ou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Down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Mo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文本框 226306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选择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fill="hold">
                      <p:stCondLst>
                        <p:cond delay="0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4" dur="5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文本框 116737"/>
          <p:cNvSpPr/>
          <p:nvPr/>
        </p:nvSpPr>
        <p:spPr>
          <a:xfrm>
            <a:off x="324000" y="1700280"/>
            <a:ext cx="85690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自动数据类型转换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如果表达式中用（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）运算符，且其中一个操作数为字符串，另一个操作数为数值时，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Script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自动将数值转成字符串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例如：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ar x=”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我今年”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+18;      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结果：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=“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我今年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18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var x=”15”+8              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结果：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x=15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var y=15+8;               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结果：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y=2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如果表达式中用了其它运算符，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Script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自动将字符串转成数值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例如：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ar x=”30”/5;            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结果：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=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ar y=”15”-“8”;         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结果：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y=7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2"/>
              </a:rPr>
              <a:t>举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文本框 116738"/>
          <p:cNvSpPr/>
          <p:nvPr/>
        </p:nvSpPr>
        <p:spPr>
          <a:xfrm>
            <a:off x="250920" y="105264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数据类型转换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文本框 116739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文本框 227329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建立选项对象的格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ew Option([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文字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[,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值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[ , defaultSelected [ , selected ] ] ] ] 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其中：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“文字”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，代表显示在列表中的文字字符串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	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“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值”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，相当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。也就是选中后，传到服务器上的值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“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defaultSelected”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，指定默认选中该选项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“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selected”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，指定选中该选项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文本框 227330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选项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5" dur="indefinite" restart="never" nodeType="tmRoot">
          <p:childTnLst>
            <p:seq>
              <p:cTn id="976" dur="indefinite" nodeType="mainSeq">
                <p:childTnLst>
                  <p:par>
                    <p:cTn id="977" fill="hold">
                      <p:stCondLst>
                        <p:cond delay="0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1" dur="5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文本框 228353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faultSelected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指定该选项为默认选择状态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ex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所有选项所构成的数组索引值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ength    Select.options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数组的元素个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选项的数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lected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判断该选项是否被选中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ext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该选项所显示的文字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alue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选中后，传到服务器上的值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3.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8"/>
              </a:rPr>
              <a:t>举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文本框 228354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选项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fill="hold">
                      <p:stCondLst>
                        <p:cond delay="0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8" dur="5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文本框 115713"/>
          <p:cNvSpPr/>
          <p:nvPr/>
        </p:nvSpPr>
        <p:spPr>
          <a:xfrm>
            <a:off x="395280" y="1628640"/>
            <a:ext cx="82472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数据类型转换函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eval(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字符串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)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将传入的字符串参数内容，转换成相应的数值，例如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y=eval(“15”)+8;           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结果：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y=2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parseInt(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字符串，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[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底数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])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将传入的字符串，转换成指定底数的数值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parseFloat(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字符串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)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将传入的字符串，转换成浮点数值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                                                       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3"/>
              </a:rPr>
              <a:t>举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文本框 115714"/>
          <p:cNvSpPr/>
          <p:nvPr/>
        </p:nvSpPr>
        <p:spPr>
          <a:xfrm>
            <a:off x="250920" y="105264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数据类型转换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文本框 115715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文本框 117761"/>
          <p:cNvSpPr/>
          <p:nvPr/>
        </p:nvSpPr>
        <p:spPr>
          <a:xfrm>
            <a:off x="395280" y="1628640"/>
            <a:ext cx="82472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文本框 117762"/>
          <p:cNvSpPr/>
          <p:nvPr/>
        </p:nvSpPr>
        <p:spPr>
          <a:xfrm>
            <a:off x="250920" y="105264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变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文本框 117763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文本框 117764"/>
          <p:cNvSpPr/>
          <p:nvPr/>
        </p:nvSpPr>
        <p:spPr>
          <a:xfrm>
            <a:off x="324000" y="1628640"/>
            <a:ext cx="85341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变量命名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以字母或下划线开头（不能以数字开头），后面接数字或其它字母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变量名区分大小写。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例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script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 A="Uppercase  A"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 a="Lowercase  a"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.write(A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.write("&lt;br&gt;"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.write(a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/script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文本框 118785"/>
          <p:cNvSpPr/>
          <p:nvPr/>
        </p:nvSpPr>
        <p:spPr>
          <a:xfrm>
            <a:off x="395280" y="1628640"/>
            <a:ext cx="82472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文本框 118786"/>
          <p:cNvSpPr/>
          <p:nvPr/>
        </p:nvSpPr>
        <p:spPr>
          <a:xfrm>
            <a:off x="250920" y="105264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变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文本框 118787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文本框 118788"/>
          <p:cNvSpPr/>
          <p:nvPr/>
        </p:nvSpPr>
        <p:spPr>
          <a:xfrm>
            <a:off x="324000" y="1628640"/>
            <a:ext cx="85341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8920" indent="357120">
              <a:lnSpc>
                <a:spcPct val="100000"/>
              </a:lnSpc>
              <a:buClr>
                <a:srgbClr val="0000ff"/>
              </a:buClr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变量的声明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8920" indent="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变量声明时，不必定义类型，所有类型均由小写的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声明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8920" indent="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例如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8920" indent="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 name;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Script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自动给出一个未定义值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8920" indent="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 name,sex;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Script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自动给出一个未定义值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8920" indent="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 name=”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张永”，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x=”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女生”；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二变量均为字符串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文本框 119809"/>
          <p:cNvSpPr/>
          <p:nvPr/>
        </p:nvSpPr>
        <p:spPr>
          <a:xfrm>
            <a:off x="395280" y="1628640"/>
            <a:ext cx="82472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文本框 119810"/>
          <p:cNvSpPr/>
          <p:nvPr/>
        </p:nvSpPr>
        <p:spPr>
          <a:xfrm>
            <a:off x="250920" y="105264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变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文本框 119811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文本框 119812"/>
          <p:cNvSpPr/>
          <p:nvPr/>
        </p:nvSpPr>
        <p:spPr>
          <a:xfrm>
            <a:off x="324000" y="1628640"/>
            <a:ext cx="85341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变量的作用域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全局变量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Global variable)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和局部变量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cal variable)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Script&gt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.title = "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变量的作用域实例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r gv = "JavaScript";       //gv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是全局变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.write("test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函数的输出：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br&gt;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nction test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r lv = "VBScript";      //lv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是局部变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.write("gv=" + gv + "&lt;br&gt;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.write("lv=" + lv + "&lt;br&gt;"+ "&lt;br&gt;");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.write("document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的输出：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br&gt;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.write("gv=" + gv + "&lt;br&gt;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.write("lv=" + lv + "&lt;br&gt;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Script&gt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文本框 120833"/>
          <p:cNvSpPr/>
          <p:nvPr/>
        </p:nvSpPr>
        <p:spPr>
          <a:xfrm>
            <a:off x="395280" y="1628640"/>
            <a:ext cx="82472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文本框 120834"/>
          <p:cNvSpPr/>
          <p:nvPr/>
        </p:nvSpPr>
        <p:spPr>
          <a:xfrm>
            <a:off x="250920" y="105264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常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文本框 120835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文本框 120836"/>
          <p:cNvSpPr/>
          <p:nvPr/>
        </p:nvSpPr>
        <p:spPr>
          <a:xfrm>
            <a:off x="324000" y="1628640"/>
            <a:ext cx="85341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字符串常量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ing Literals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一般字符串常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特殊字符的字符串常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布尔常量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ean Literals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）：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ue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或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e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整数常量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gers Literals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浮点常量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ating-Point Literals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数组常量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ray Literals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755640" y="2924280"/>
          <a:ext cx="6985080" cy="1981080"/>
        </p:xfrm>
        <a:graphic>
          <a:graphicData uri="http://schemas.openxmlformats.org/drawingml/2006/table">
            <a:tbl>
              <a:tblPr/>
              <a:tblGrid>
                <a:gridCol w="857160"/>
                <a:gridCol w="2976480"/>
                <a:gridCol w="893880"/>
                <a:gridCol w="2257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字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意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字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意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\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后退一格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ackspac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\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制表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Ta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\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换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Form fe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\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单引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\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换行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New lin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\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双引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\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返回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arriage retur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\\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反斜线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ackslash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文本框 121857"/>
          <p:cNvSpPr/>
          <p:nvPr/>
        </p:nvSpPr>
        <p:spPr>
          <a:xfrm>
            <a:off x="395280" y="1628640"/>
            <a:ext cx="82472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文本框 121858"/>
          <p:cNvSpPr/>
          <p:nvPr/>
        </p:nvSpPr>
        <p:spPr>
          <a:xfrm>
            <a:off x="250920" y="907920"/>
            <a:ext cx="839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运算符与表达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文本框 121859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文本框 121860"/>
          <p:cNvSpPr/>
          <p:nvPr/>
        </p:nvSpPr>
        <p:spPr>
          <a:xfrm>
            <a:off x="324000" y="1557360"/>
            <a:ext cx="8534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赋值运算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24000" y="2276640"/>
          <a:ext cx="8496000" cy="2073240"/>
        </p:xfrm>
        <a:graphic>
          <a:graphicData uri="http://schemas.openxmlformats.org/drawingml/2006/table">
            <a:tbl>
              <a:tblPr/>
              <a:tblGrid>
                <a:gridCol w="2128320"/>
                <a:gridCol w="1724040"/>
                <a:gridCol w="2049480"/>
                <a:gridCol w="2594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运算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意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运算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意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=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=x/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=x+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求余赋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=x-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*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=x*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文本框 122881"/>
          <p:cNvSpPr/>
          <p:nvPr/>
        </p:nvSpPr>
        <p:spPr>
          <a:xfrm>
            <a:off x="395280" y="1628640"/>
            <a:ext cx="82472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文本框 122882"/>
          <p:cNvSpPr/>
          <p:nvPr/>
        </p:nvSpPr>
        <p:spPr>
          <a:xfrm>
            <a:off x="250920" y="907920"/>
            <a:ext cx="839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运算符与表达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文本框 122883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文本框 122884"/>
          <p:cNvSpPr/>
          <p:nvPr/>
        </p:nvSpPr>
        <p:spPr>
          <a:xfrm>
            <a:off x="324000" y="1557360"/>
            <a:ext cx="8534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比较运算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                                                             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1"/>
              </a:rPr>
              <a:t>举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395280" y="2205000"/>
          <a:ext cx="8424720" cy="2773440"/>
        </p:xfrm>
        <a:graphic>
          <a:graphicData uri="http://schemas.openxmlformats.org/drawingml/2006/table">
            <a:tbl>
              <a:tblPr/>
              <a:tblGrid>
                <a:gridCol w="1244520"/>
                <a:gridCol w="4197600"/>
                <a:gridCol w="298260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操作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描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举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==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如果两个操作数相等，返回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Psw =passwo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!=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如果两个操作数不等，返回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mobile.length!=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&gt;=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如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大于或者等于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返回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tries&gt;=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&gt;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如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大于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返回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mflag&gt;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&lt;=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如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小于或等于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返回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i&lt;=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&lt;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如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小巧或等于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返回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tries&lt;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文本框 123905"/>
          <p:cNvSpPr/>
          <p:nvPr/>
        </p:nvSpPr>
        <p:spPr>
          <a:xfrm>
            <a:off x="395280" y="1628640"/>
            <a:ext cx="82472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文本框 123906"/>
          <p:cNvSpPr/>
          <p:nvPr/>
        </p:nvSpPr>
        <p:spPr>
          <a:xfrm>
            <a:off x="250920" y="907920"/>
            <a:ext cx="839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运算符与表达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文本框 123907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文本框 123908"/>
          <p:cNvSpPr/>
          <p:nvPr/>
        </p:nvSpPr>
        <p:spPr>
          <a:xfrm>
            <a:off x="324000" y="1557360"/>
            <a:ext cx="8534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算术运算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                                                             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1"/>
              </a:rPr>
              <a:t>举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24000" y="2205000"/>
          <a:ext cx="8496000" cy="2498760"/>
        </p:xfrm>
        <a:graphic>
          <a:graphicData uri="http://schemas.openxmlformats.org/drawingml/2006/table">
            <a:tbl>
              <a:tblPr/>
              <a:tblGrid>
                <a:gridCol w="1007640"/>
                <a:gridCol w="1636920"/>
                <a:gridCol w="955440"/>
                <a:gridCol w="1498680"/>
                <a:gridCol w="1093680"/>
                <a:gridCol w="2303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运算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意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运算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意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运算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意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dditio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除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ivisio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递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ecremen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ubtractio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求余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odulu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取负值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Unary Negatio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乘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ultiplicatio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递增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Incremen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文本框 137217"/>
          <p:cNvSpPr/>
          <p:nvPr/>
        </p:nvSpPr>
        <p:spPr>
          <a:xfrm>
            <a:off x="324000" y="1268280"/>
            <a:ext cx="856908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Script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是由网景公司开发的一种跨平台，面向对象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object-oriented)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的网页脚本语言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Web Script Language)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，是目前流行的网页特效设计语言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Script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代码可直接嵌入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ML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文件中，随网页一起传送到客户端浏览器，然后通过浏览器来解释执行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文本框 137218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概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文本框 124929"/>
          <p:cNvSpPr/>
          <p:nvPr/>
        </p:nvSpPr>
        <p:spPr>
          <a:xfrm>
            <a:off x="395280" y="1628640"/>
            <a:ext cx="82472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文本框 124930"/>
          <p:cNvSpPr/>
          <p:nvPr/>
        </p:nvSpPr>
        <p:spPr>
          <a:xfrm>
            <a:off x="250920" y="907920"/>
            <a:ext cx="839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运算符与表达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文本框 124931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文本框 124932"/>
          <p:cNvSpPr/>
          <p:nvPr/>
        </p:nvSpPr>
        <p:spPr>
          <a:xfrm>
            <a:off x="324000" y="1557360"/>
            <a:ext cx="853416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逻辑运算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ff"/>
                </a:solidFill>
                <a:latin typeface="Tahoma"/>
              </a:rPr>
              <a:t>a&amp;&amp;b </a:t>
            </a:r>
            <a:r>
              <a:rPr b="0" i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逻辑与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(Logical AND)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，若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,b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都是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ure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，则结果为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ure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ff"/>
                </a:solidFill>
                <a:latin typeface="Tahoma"/>
              </a:rPr>
              <a:t>a||b </a:t>
            </a:r>
            <a:r>
              <a:rPr b="0" i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逻辑或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(Logical OR) 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，若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,b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任一是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ure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，则结果为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ure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ff"/>
                </a:solidFill>
                <a:latin typeface="Tahoma"/>
              </a:rPr>
              <a:t>!a </a:t>
            </a:r>
            <a:r>
              <a:rPr b="0" i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逻辑非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(Logical NOT) 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，若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是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ure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，则结果为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false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文本框 125953"/>
          <p:cNvSpPr/>
          <p:nvPr/>
        </p:nvSpPr>
        <p:spPr>
          <a:xfrm>
            <a:off x="395280" y="1628640"/>
            <a:ext cx="82472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文本框 125954"/>
          <p:cNvSpPr/>
          <p:nvPr/>
        </p:nvSpPr>
        <p:spPr>
          <a:xfrm>
            <a:off x="250920" y="907920"/>
            <a:ext cx="839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运算符与表达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文本框 125955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文本框 125956"/>
          <p:cNvSpPr/>
          <p:nvPr/>
        </p:nvSpPr>
        <p:spPr>
          <a:xfrm>
            <a:off x="324000" y="1557360"/>
            <a:ext cx="853416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字符串运算符（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String operators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条件运算符（？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格式：</a:t>
            </a:r>
            <a:r>
              <a:rPr b="0" i="1" lang="zh-CN" sz="2800" spc="-1" strike="noStrike">
                <a:solidFill>
                  <a:srgbClr val="ff0000"/>
                </a:solidFill>
                <a:latin typeface="Tahoma"/>
                <a:ea typeface="宋体"/>
              </a:rPr>
              <a:t>条件表达式？</a:t>
            </a:r>
            <a:r>
              <a:rPr b="0" i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值</a:t>
            </a:r>
            <a:r>
              <a:rPr b="0" i="1" lang="en-US" sz="2800" spc="-1" strike="noStrike">
                <a:solidFill>
                  <a:srgbClr val="0000ff"/>
                </a:solidFill>
                <a:latin typeface="Tahoma"/>
              </a:rPr>
              <a:t>1</a:t>
            </a:r>
            <a:r>
              <a:rPr b="0" i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0" i="1" lang="zh-CN" sz="2800" spc="-1" strike="noStrike">
                <a:solidFill>
                  <a:srgbClr val="ff0000"/>
                </a:solidFill>
                <a:latin typeface="Tahoma"/>
                <a:ea typeface="宋体"/>
              </a:rPr>
              <a:t>值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如果条件表达式的结果是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re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，返回值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，否则就返回值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                                                   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1"/>
              </a:rPr>
              <a:t>举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new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定义对象实例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语法：对象名称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new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对象类型（参数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例如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yArray=new Array(3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文本框 126977"/>
          <p:cNvSpPr/>
          <p:nvPr/>
        </p:nvSpPr>
        <p:spPr>
          <a:xfrm>
            <a:off x="395280" y="1628640"/>
            <a:ext cx="82472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文本框 126978"/>
          <p:cNvSpPr/>
          <p:nvPr/>
        </p:nvSpPr>
        <p:spPr>
          <a:xfrm>
            <a:off x="250920" y="907920"/>
            <a:ext cx="839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运算符与表达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文本框 126979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文本框 126980"/>
          <p:cNvSpPr/>
          <p:nvPr/>
        </p:nvSpPr>
        <p:spPr>
          <a:xfrm>
            <a:off x="324000" y="1557360"/>
            <a:ext cx="853416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delete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删除对象、属性、数组、变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  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格式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ete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对象名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ete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对象名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名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ete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数组名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索引值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      delete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变量名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ahoma"/>
                <a:ea typeface="宋体"/>
              </a:rPr>
              <a:t>    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  <a:ea typeface="宋体"/>
              </a:rPr>
              <a:t>注：删除成功返回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rue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  <a:ea typeface="宋体"/>
              </a:rPr>
              <a:t>，删除失败返回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flase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ahoma"/>
                <a:ea typeface="宋体"/>
              </a:rPr>
              <a:t>                                                                 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1"/>
              </a:rPr>
              <a:t>举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typeof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用来判断操作数的类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格式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of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操作数      或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of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（操作数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                                                          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2"/>
              </a:rPr>
              <a:t>举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this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代表当前对象，因此用在不同的地方，就有不同的结果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                                                          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3"/>
              </a:rPr>
              <a:t>举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文本框 128001"/>
          <p:cNvSpPr/>
          <p:nvPr/>
        </p:nvSpPr>
        <p:spPr>
          <a:xfrm>
            <a:off x="395280" y="1628640"/>
            <a:ext cx="82472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文本框 128002"/>
          <p:cNvSpPr/>
          <p:nvPr/>
        </p:nvSpPr>
        <p:spPr>
          <a:xfrm>
            <a:off x="250920" y="907920"/>
            <a:ext cx="839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程序控制流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文本框 128003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文本框 128004"/>
          <p:cNvSpPr/>
          <p:nvPr/>
        </p:nvSpPr>
        <p:spPr>
          <a:xfrm>
            <a:off x="324000" y="1557360"/>
            <a:ext cx="8534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选择结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矩形 128005"/>
          <p:cNvSpPr/>
          <p:nvPr/>
        </p:nvSpPr>
        <p:spPr>
          <a:xfrm>
            <a:off x="1514520" y="2205000"/>
            <a:ext cx="2129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&lt;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逻辑表达式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语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语句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矩形 128006"/>
          <p:cNvSpPr/>
          <p:nvPr/>
        </p:nvSpPr>
        <p:spPr>
          <a:xfrm>
            <a:off x="1514520" y="4437000"/>
            <a:ext cx="2129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&lt;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逻辑表达式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语句组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语句组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矩形 128007"/>
          <p:cNvSpPr/>
          <p:nvPr/>
        </p:nvSpPr>
        <p:spPr>
          <a:xfrm>
            <a:off x="5029200" y="2205360"/>
            <a:ext cx="2883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&lt;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逻辑表达式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语句组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se if &lt;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逻辑表达式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语句组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语句组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直接连接符 128008"/>
          <p:cNvSpPr/>
          <p:nvPr/>
        </p:nvSpPr>
        <p:spPr>
          <a:xfrm>
            <a:off x="395280" y="213372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直接连接符 128009"/>
          <p:cNvSpPr/>
          <p:nvPr/>
        </p:nvSpPr>
        <p:spPr>
          <a:xfrm>
            <a:off x="435600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直接连接符 128010"/>
          <p:cNvSpPr/>
          <p:nvPr/>
        </p:nvSpPr>
        <p:spPr>
          <a:xfrm>
            <a:off x="395280" y="638172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直接连接符 128012"/>
          <p:cNvSpPr/>
          <p:nvPr/>
        </p:nvSpPr>
        <p:spPr>
          <a:xfrm>
            <a:off x="395280" y="4221000"/>
            <a:ext cx="39607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文本框 128013"/>
          <p:cNvSpPr/>
          <p:nvPr/>
        </p:nvSpPr>
        <p:spPr>
          <a:xfrm>
            <a:off x="6588000" y="5805360"/>
            <a:ext cx="201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1"/>
              </a:rPr>
              <a:t>举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文本框 130049"/>
          <p:cNvSpPr/>
          <p:nvPr/>
        </p:nvSpPr>
        <p:spPr>
          <a:xfrm>
            <a:off x="395280" y="1628640"/>
            <a:ext cx="82472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文本框 130050"/>
          <p:cNvSpPr/>
          <p:nvPr/>
        </p:nvSpPr>
        <p:spPr>
          <a:xfrm>
            <a:off x="250920" y="907920"/>
            <a:ext cx="839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程序控制流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文本框 130051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文本框 130052"/>
          <p:cNvSpPr/>
          <p:nvPr/>
        </p:nvSpPr>
        <p:spPr>
          <a:xfrm>
            <a:off x="324000" y="1557360"/>
            <a:ext cx="8534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选择结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矩形 130061"/>
          <p:cNvSpPr/>
          <p:nvPr/>
        </p:nvSpPr>
        <p:spPr>
          <a:xfrm>
            <a:off x="1271520" y="2489760"/>
            <a:ext cx="52786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结构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 ( &lt;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变量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gt; 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se &lt;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特定数值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&gt;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语句或语句组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se &lt;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特定数值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&gt;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语句或语句组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ault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语句或语句组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文本框 129025"/>
          <p:cNvSpPr/>
          <p:nvPr/>
        </p:nvSpPr>
        <p:spPr>
          <a:xfrm>
            <a:off x="395280" y="1628640"/>
            <a:ext cx="82472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文本框 129026"/>
          <p:cNvSpPr/>
          <p:nvPr/>
        </p:nvSpPr>
        <p:spPr>
          <a:xfrm>
            <a:off x="250920" y="907920"/>
            <a:ext cx="839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程序控制流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文本框 129027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文本框 129028"/>
          <p:cNvSpPr/>
          <p:nvPr/>
        </p:nvSpPr>
        <p:spPr>
          <a:xfrm>
            <a:off x="324000" y="1557360"/>
            <a:ext cx="8534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循环结构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矩形 129029"/>
          <p:cNvSpPr/>
          <p:nvPr/>
        </p:nvSpPr>
        <p:spPr>
          <a:xfrm>
            <a:off x="656280" y="2133360"/>
            <a:ext cx="301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ile (&lt;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逻辑表达式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gt;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语句组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矩形 129030"/>
          <p:cNvSpPr/>
          <p:nvPr/>
        </p:nvSpPr>
        <p:spPr>
          <a:xfrm>
            <a:off x="579960" y="3285000"/>
            <a:ext cx="60692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&lt;Script&gt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var i = 5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while ( i &gt; 0 ) {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document.write("i = " ,i ,"&lt;BR&gt;"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i--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&lt;/Script&gt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文本框 131073"/>
          <p:cNvSpPr/>
          <p:nvPr/>
        </p:nvSpPr>
        <p:spPr>
          <a:xfrm>
            <a:off x="395280" y="1628640"/>
            <a:ext cx="82472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文本框 131074"/>
          <p:cNvSpPr/>
          <p:nvPr/>
        </p:nvSpPr>
        <p:spPr>
          <a:xfrm>
            <a:off x="250920" y="907920"/>
            <a:ext cx="839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程序控制流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文本框 131075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文本框 131076"/>
          <p:cNvSpPr/>
          <p:nvPr/>
        </p:nvSpPr>
        <p:spPr>
          <a:xfrm>
            <a:off x="324000" y="1557360"/>
            <a:ext cx="8534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循环结构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矩形 131079"/>
          <p:cNvSpPr/>
          <p:nvPr/>
        </p:nvSpPr>
        <p:spPr>
          <a:xfrm>
            <a:off x="324000" y="2134800"/>
            <a:ext cx="8351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{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语句或语句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while (&lt;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逻辑表达式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gt;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&lt;Script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var i = 5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do {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document.write("i = " ,i ,"&lt;BR&gt;"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i--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} while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( i &gt; 0 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&lt;/Script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文本框 132097"/>
          <p:cNvSpPr/>
          <p:nvPr/>
        </p:nvSpPr>
        <p:spPr>
          <a:xfrm>
            <a:off x="395280" y="1628640"/>
            <a:ext cx="82472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文本框 132098"/>
          <p:cNvSpPr/>
          <p:nvPr/>
        </p:nvSpPr>
        <p:spPr>
          <a:xfrm>
            <a:off x="250920" y="907920"/>
            <a:ext cx="839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程序控制流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文本框 132099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文本框 132100"/>
          <p:cNvSpPr/>
          <p:nvPr/>
        </p:nvSpPr>
        <p:spPr>
          <a:xfrm>
            <a:off x="324000" y="1557360"/>
            <a:ext cx="8534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循环结构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文本框 132102"/>
          <p:cNvSpPr/>
          <p:nvPr/>
        </p:nvSpPr>
        <p:spPr>
          <a:xfrm>
            <a:off x="468360" y="2133720"/>
            <a:ext cx="6335640" cy="85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( [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初始值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条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增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 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 &lt;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或语句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gt;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矩形 132103"/>
          <p:cNvSpPr/>
          <p:nvPr/>
        </p:nvSpPr>
        <p:spPr>
          <a:xfrm>
            <a:off x="444600" y="3285000"/>
            <a:ext cx="6162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&lt;Script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for ( var i = 5; i &gt; 0; i-- 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document.write("i = " ,i ,"&lt;BR&gt;"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&lt;/Script&gt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文本框 133121"/>
          <p:cNvSpPr/>
          <p:nvPr/>
        </p:nvSpPr>
        <p:spPr>
          <a:xfrm>
            <a:off x="395280" y="1628640"/>
            <a:ext cx="82472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文本框 133122"/>
          <p:cNvSpPr/>
          <p:nvPr/>
        </p:nvSpPr>
        <p:spPr>
          <a:xfrm>
            <a:off x="250920" y="907920"/>
            <a:ext cx="839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程序控制流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文本框 133123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文本框 133124"/>
          <p:cNvSpPr/>
          <p:nvPr/>
        </p:nvSpPr>
        <p:spPr>
          <a:xfrm>
            <a:off x="324000" y="1557360"/>
            <a:ext cx="8534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循环结构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文本框 133127"/>
          <p:cNvSpPr/>
          <p:nvPr/>
        </p:nvSpPr>
        <p:spPr>
          <a:xfrm>
            <a:off x="539640" y="2205000"/>
            <a:ext cx="5688000" cy="20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(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变量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象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 &lt;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或语句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1"/>
              </a:rPr>
              <a:t>例1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     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2"/>
              </a:rPr>
              <a:t>例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文本框 134145"/>
          <p:cNvSpPr/>
          <p:nvPr/>
        </p:nvSpPr>
        <p:spPr>
          <a:xfrm>
            <a:off x="395280" y="1628640"/>
            <a:ext cx="82472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文本框 134146"/>
          <p:cNvSpPr/>
          <p:nvPr/>
        </p:nvSpPr>
        <p:spPr>
          <a:xfrm>
            <a:off x="250920" y="907920"/>
            <a:ext cx="839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程序控制流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文本框 134147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文本框 134148"/>
          <p:cNvSpPr/>
          <p:nvPr/>
        </p:nvSpPr>
        <p:spPr>
          <a:xfrm>
            <a:off x="250920" y="1484280"/>
            <a:ext cx="8534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循环结构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矩形 134150"/>
          <p:cNvSpPr/>
          <p:nvPr/>
        </p:nvSpPr>
        <p:spPr>
          <a:xfrm>
            <a:off x="395280" y="2060280"/>
            <a:ext cx="507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ith ( &lt;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对象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&gt; 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{ &lt;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语句或语句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&gt;  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矩形 134151"/>
          <p:cNvSpPr/>
          <p:nvPr/>
        </p:nvSpPr>
        <p:spPr>
          <a:xfrm>
            <a:off x="612720" y="3357720"/>
            <a:ext cx="7640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685800"/>
                <a:tab algn="l" pos="80028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172200"/>
                <a:tab algn="l" pos="6400800"/>
                <a:tab algn="l" pos="6629400"/>
                <a:tab algn="l" pos="6858000"/>
                <a:tab algn="l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&lt;Script&gt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685800"/>
                <a:tab algn="l" pos="80028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172200"/>
                <a:tab algn="l" pos="6400800"/>
                <a:tab algn="l" pos="6629400"/>
                <a:tab algn="l" pos="6858000"/>
                <a:tab algn="l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document.write ("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限时抢购物品：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"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685800"/>
                <a:tab algn="l" pos="80028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172200"/>
                <a:tab algn="l" pos="6400800"/>
                <a:tab algn="l" pos="6629400"/>
                <a:tab algn="l" pos="6858000"/>
                <a:tab algn="l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document.write ("&lt;Li&gt;ViewSonic 17\"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显示器。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"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685800"/>
                <a:tab algn="l" pos="80028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172200"/>
                <a:tab algn="l" pos="6400800"/>
                <a:tab algn="l" pos="6629400"/>
                <a:tab algn="l" pos="6858000"/>
                <a:tab algn="l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document.write ("&lt;Li&gt;EPSON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打印机。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");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685800"/>
                <a:tab algn="l" pos="80028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172200"/>
                <a:tab algn="l" pos="6400800"/>
                <a:tab algn="l" pos="6629400"/>
                <a:tab algn="l" pos="6858000"/>
                <a:tab algn="l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&lt;/Script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矩形 134152"/>
          <p:cNvSpPr/>
          <p:nvPr/>
        </p:nvSpPr>
        <p:spPr>
          <a:xfrm>
            <a:off x="468360" y="3068640"/>
            <a:ext cx="7848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&lt;Script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with (document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write ("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限时抢购物品：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"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write ("&lt;Li&gt;ViewSonic 17\"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显示器。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"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write ("&lt;Li&gt;EPSON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打印机。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");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&lt;/Script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文本框 139265"/>
          <p:cNvSpPr/>
          <p:nvPr/>
        </p:nvSpPr>
        <p:spPr>
          <a:xfrm>
            <a:off x="250920" y="1125360"/>
            <a:ext cx="85690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什么是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JavaScrip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脚本语言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1)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脚本语言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Scripting Language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0" lang="zh-CN" sz="2800" spc="-1" strike="noStrike">
                <a:solidFill>
                  <a:srgbClr val="e33e1d"/>
                </a:solidFill>
                <a:latin typeface="Tahoma"/>
                <a:ea typeface="宋体"/>
              </a:rPr>
              <a:t>由</a:t>
            </a:r>
            <a:r>
              <a:rPr b="0" lang="en-US" sz="2800" spc="-1" strike="noStrike">
                <a:solidFill>
                  <a:srgbClr val="e33e1d"/>
                </a:solidFill>
                <a:latin typeface="Tahoma"/>
                <a:ea typeface="宋体"/>
              </a:rPr>
              <a:t>ASCII</a:t>
            </a:r>
            <a:r>
              <a:rPr b="0" lang="zh-CN" sz="2800" spc="-1" strike="noStrike">
                <a:solidFill>
                  <a:srgbClr val="e33e1d"/>
                </a:solidFill>
                <a:latin typeface="Tahoma"/>
                <a:ea typeface="宋体"/>
              </a:rPr>
              <a:t>码构成，可直接用任何的文本编辑器开发完成。是一种不必事先编译，只要利用适当的解释器</a:t>
            </a:r>
            <a:r>
              <a:rPr b="0" lang="en-US" sz="2800" spc="-1" strike="noStrike">
                <a:solidFill>
                  <a:srgbClr val="e33e1d"/>
                </a:solidFill>
                <a:latin typeface="Tahoma"/>
                <a:ea typeface="宋体"/>
              </a:rPr>
              <a:t>(Interpreter)</a:t>
            </a:r>
            <a:r>
              <a:rPr b="0" lang="zh-CN" sz="2800" spc="-1" strike="noStrike">
                <a:solidFill>
                  <a:srgbClr val="e33e1d"/>
                </a:solidFill>
                <a:latin typeface="Tahoma"/>
                <a:ea typeface="宋体"/>
              </a:rPr>
              <a:t>就可以执行的简单的解释式程序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(2) JavaScrip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0" lang="en-US" sz="2800" spc="-1" strike="noStrike">
                <a:solidFill>
                  <a:srgbClr val="e33e1d"/>
                </a:solidFill>
                <a:latin typeface="Tahoma"/>
                <a:ea typeface="宋体"/>
              </a:rPr>
              <a:t>JavaScript</a:t>
            </a:r>
            <a:r>
              <a:rPr b="0" lang="zh-CN" sz="2800" spc="-1" strike="noStrike">
                <a:solidFill>
                  <a:srgbClr val="e33e1d"/>
                </a:solidFill>
                <a:latin typeface="Tahoma"/>
                <a:ea typeface="宋体"/>
              </a:rPr>
              <a:t>是由网景公司开发的一种跨平台，纯面向对象</a:t>
            </a:r>
            <a:r>
              <a:rPr b="0" lang="en-US" sz="2800" spc="-1" strike="noStrike">
                <a:solidFill>
                  <a:srgbClr val="e33e1d"/>
                </a:solidFill>
                <a:latin typeface="Tahoma"/>
                <a:ea typeface="宋体"/>
              </a:rPr>
              <a:t>(object-oriented)</a:t>
            </a:r>
            <a:r>
              <a:rPr b="0" lang="zh-CN" sz="2800" spc="-1" strike="noStrike">
                <a:solidFill>
                  <a:srgbClr val="e33e1d"/>
                </a:solidFill>
                <a:latin typeface="Tahoma"/>
                <a:ea typeface="宋体"/>
              </a:rPr>
              <a:t>式的网页式脚本语言</a:t>
            </a:r>
            <a:r>
              <a:rPr b="0" lang="en-US" sz="2800" spc="-1" strike="noStrike">
                <a:solidFill>
                  <a:srgbClr val="e33e1d"/>
                </a:solidFill>
                <a:latin typeface="Tahoma"/>
                <a:ea typeface="宋体"/>
              </a:rPr>
              <a:t>(Web Script Language)</a:t>
            </a:r>
            <a:r>
              <a:rPr b="0" lang="zh-CN" sz="2800" spc="-1" strike="noStrike">
                <a:solidFill>
                  <a:srgbClr val="e33e1d"/>
                </a:solidFill>
                <a:latin typeface="Tahoma"/>
                <a:ea typeface="宋体"/>
              </a:rPr>
              <a:t>。</a:t>
            </a:r>
            <a:r>
              <a:rPr b="0" lang="en-US" sz="2800" spc="-1" strike="noStrike">
                <a:solidFill>
                  <a:srgbClr val="e33e1d"/>
                </a:solidFill>
                <a:latin typeface="Tahoma"/>
                <a:ea typeface="宋体"/>
              </a:rPr>
              <a:t>JavaScript</a:t>
            </a:r>
            <a:r>
              <a:rPr b="0" lang="zh-CN" sz="2800" spc="-1" strike="noStrike">
                <a:solidFill>
                  <a:srgbClr val="e33e1d"/>
                </a:solidFill>
                <a:latin typeface="Tahoma"/>
                <a:ea typeface="宋体"/>
              </a:rPr>
              <a:t>代码可直接嵌入</a:t>
            </a:r>
            <a:r>
              <a:rPr b="0" lang="en-US" sz="2800" spc="-1" strike="noStrike">
                <a:solidFill>
                  <a:srgbClr val="e33e1d"/>
                </a:solidFill>
                <a:latin typeface="Tahoma"/>
                <a:ea typeface="宋体"/>
              </a:rPr>
              <a:t>HTML</a:t>
            </a:r>
            <a:r>
              <a:rPr b="0" lang="zh-CN" sz="2800" spc="-1" strike="noStrike">
                <a:solidFill>
                  <a:srgbClr val="e33e1d"/>
                </a:solidFill>
                <a:latin typeface="Tahoma"/>
                <a:ea typeface="宋体"/>
              </a:rPr>
              <a:t>文件中，随网页一起传送到客户端浏览器，然后通过浏览器的解释器来解释执行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文本框 139266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概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文本框 135169"/>
          <p:cNvSpPr/>
          <p:nvPr/>
        </p:nvSpPr>
        <p:spPr>
          <a:xfrm>
            <a:off x="395280" y="1628640"/>
            <a:ext cx="82472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文本框 135170"/>
          <p:cNvSpPr/>
          <p:nvPr/>
        </p:nvSpPr>
        <p:spPr>
          <a:xfrm>
            <a:off x="250920" y="907920"/>
            <a:ext cx="839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程序控制流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文本框 135171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文本框 135172"/>
          <p:cNvSpPr/>
          <p:nvPr/>
        </p:nvSpPr>
        <p:spPr>
          <a:xfrm>
            <a:off x="324000" y="1557360"/>
            <a:ext cx="8534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注释语句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文本框 135175"/>
          <p:cNvSpPr/>
          <p:nvPr/>
        </p:nvSpPr>
        <p:spPr>
          <a:xfrm>
            <a:off x="395280" y="2276640"/>
            <a:ext cx="6238800" cy="16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/ &lt;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单行注释语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*  &lt;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多行注释语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 */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文本框 140289"/>
          <p:cNvSpPr/>
          <p:nvPr/>
        </p:nvSpPr>
        <p:spPr>
          <a:xfrm>
            <a:off x="533520" y="1828800"/>
            <a:ext cx="6835680" cy="34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vaScript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包含两类函数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r>
              <a:rPr b="0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系统函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r>
              <a:rPr b="0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用户自定义函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文本框 140290"/>
          <p:cNvSpPr/>
          <p:nvPr/>
        </p:nvSpPr>
        <p:spPr>
          <a:xfrm>
            <a:off x="380880" y="990720"/>
            <a:ext cx="70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7. JavaScript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函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文本框 140291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文本框 141313"/>
          <p:cNvSpPr/>
          <p:nvPr/>
        </p:nvSpPr>
        <p:spPr>
          <a:xfrm>
            <a:off x="250920" y="1125360"/>
            <a:ext cx="8642160" cy="47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1)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编码函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功能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将字符串中非文字、数字字符（如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amp;,%,#,^,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空格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）转成相对应的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CII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值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语法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cape(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字符串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2)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译码函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功能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cape()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相反，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CII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字符转回一般数字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语法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escape(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字符串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3)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求值函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功能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通常有两个用途，一个用作字符串的运算，另一个用来指出操作对象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语法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l (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达式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文本框 141314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文本框 142337"/>
          <p:cNvSpPr/>
          <p:nvPr/>
        </p:nvSpPr>
        <p:spPr>
          <a:xfrm>
            <a:off x="250920" y="1125360"/>
            <a:ext cx="85690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4)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数值判断函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功能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判断变量的值是否为数值，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N”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代表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Number”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，若返回值为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e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，则表示自变量不是数值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语法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NaN(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测试值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举例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Script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 x = 15, y = "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黄雅玲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.write("&lt;LI&gt;x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不是数值吗？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,isNaN(x)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.write("&lt;LI&gt;y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不是数值吗？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,isNaN(y)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/Script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执行结果：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x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不是数值吗？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fal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          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y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不是数值吗？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文本框 142338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文本框 143361"/>
          <p:cNvSpPr/>
          <p:nvPr/>
        </p:nvSpPr>
        <p:spPr>
          <a:xfrm>
            <a:off x="250920" y="1052640"/>
            <a:ext cx="856908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5)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转成整数函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功能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将各种进制的数值转成十进制整数值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格式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seInt(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字符串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，底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举例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Script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//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二进位转成十进位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.write("1101&lt;sub&gt;2&lt;/sub&gt; = "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parseInt("1101", 2),"&lt;sub&gt;10&lt;/sub&gt;&lt;br&gt;"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//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十六进位转成十进位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.write("BFFF&lt;sub&gt;16&lt;/sub&gt; = "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parseInt("BFFF", 16),"&lt;sub&gt;10&lt;/sub&gt;&lt;br&gt;"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/Script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文本框 143362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文本框 144385"/>
          <p:cNvSpPr/>
          <p:nvPr/>
        </p:nvSpPr>
        <p:spPr>
          <a:xfrm>
            <a:off x="250920" y="1052640"/>
            <a:ext cx="856908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6)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转成浮点函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功能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将字符串转成浮点数值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格式：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seFloat(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字符串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举例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Script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.write(parseInt("3.123456"), "&lt;br&gt;"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.write(parseFloat("3.123456"), "&lt;br&gt;"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/Script&gt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文本框 144386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文本框 145409"/>
          <p:cNvSpPr/>
          <p:nvPr/>
        </p:nvSpPr>
        <p:spPr>
          <a:xfrm>
            <a:off x="395280" y="1628640"/>
            <a:ext cx="82472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文本框 145410"/>
          <p:cNvSpPr/>
          <p:nvPr/>
        </p:nvSpPr>
        <p:spPr>
          <a:xfrm>
            <a:off x="250920" y="907920"/>
            <a:ext cx="839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7) 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用户自定义函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文本框 145411"/>
          <p:cNvSpPr/>
          <p:nvPr/>
        </p:nvSpPr>
        <p:spPr>
          <a:xfrm>
            <a:off x="609480" y="1752480"/>
            <a:ext cx="7344000" cy="216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函数名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参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参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函数内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return &lt;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返回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矩形 145412"/>
          <p:cNvSpPr/>
          <p:nvPr/>
        </p:nvSpPr>
        <p:spPr>
          <a:xfrm>
            <a:off x="609480" y="4086720"/>
            <a:ext cx="7707600" cy="18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定义函数的注意事项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易于识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功能模块化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放置在程序开始部分     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4"/>
              </a:rPr>
              <a:t>例1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  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5"/>
              </a:rPr>
              <a:t>例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文本框 145413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文本框 147457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的事件处理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矩形 147458"/>
          <p:cNvSpPr/>
          <p:nvPr/>
        </p:nvSpPr>
        <p:spPr>
          <a:xfrm>
            <a:off x="395280" y="1052640"/>
            <a:ext cx="84247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主要内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事件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(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Event)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鼠标或键盘的动作称为事件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事件驱动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(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Event Driver)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由事件引发的一连串程序的动作，称为事件驱动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事件处理程序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(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Event Handler)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对事件进行处理的程序或函数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事件处理程序语法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文本框 148481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的事件处理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矩形 148482"/>
          <p:cNvSpPr/>
          <p:nvPr/>
        </p:nvSpPr>
        <p:spPr>
          <a:xfrm>
            <a:off x="395280" y="1052640"/>
            <a:ext cx="842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、常见事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250920" y="1557360"/>
          <a:ext cx="8569080" cy="4754520"/>
        </p:xfrm>
        <a:graphic>
          <a:graphicData uri="http://schemas.openxmlformats.org/drawingml/2006/table">
            <a:tbl>
              <a:tblPr/>
              <a:tblGrid>
                <a:gridCol w="1180800"/>
                <a:gridCol w="2995560"/>
                <a:gridCol w="1438200"/>
                <a:gridCol w="2954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事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动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事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动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止正在加载的对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lo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关闭当前网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l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失去焦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useDow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按下鼠标左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c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获取焦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useMo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移动鼠标指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改变对象的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use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鼠标指针离开某对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在对象上单击鼠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useO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鼠标指针悬停于某对象之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blC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在对象上双击鼠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use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放开鼠标左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ogDr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拖拽对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窗口被移动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rr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加载文件或图形时发生错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窗口大小被改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yDow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按下键盘上的任意键的瞬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l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选择某对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yPr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按下键盘上的任意键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m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单击表单上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mi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按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y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某键被按下后弹起来的瞬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单击表单上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按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a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浏览器读入文件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文本框 149505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的事件处理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矩形 149506"/>
          <p:cNvSpPr/>
          <p:nvPr/>
        </p:nvSpPr>
        <p:spPr>
          <a:xfrm>
            <a:off x="395280" y="1052640"/>
            <a:ext cx="84247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、事件处理程序语法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将事件处理程序直接嵌入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ML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标记符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BODY onLoad = “alert(‘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这是事件处理程序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”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例如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Body onLoad="alert('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您好！欢迎您学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Script')"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/Body&gt;                                 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2"/>
              </a:rPr>
              <a:t>浏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直接写在对象后面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Script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.onLoad = alert('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这是事件处理程序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'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/Script&gt;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                            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4"/>
              </a:rPr>
              <a:t>浏览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文本框 104449"/>
          <p:cNvSpPr/>
          <p:nvPr/>
        </p:nvSpPr>
        <p:spPr>
          <a:xfrm>
            <a:off x="755640" y="1916280"/>
            <a:ext cx="7345440" cy="32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脚本编写语言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基于对象的语言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简单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安全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动态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跨平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文本框 104450"/>
          <p:cNvSpPr/>
          <p:nvPr/>
        </p:nvSpPr>
        <p:spPr>
          <a:xfrm>
            <a:off x="826920" y="1052640"/>
            <a:ext cx="80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2. JavaScript</a:t>
            </a:r>
            <a:r>
              <a:rPr b="0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的特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文本框 104451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概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dur="indefinite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文本框 150529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的事件处理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矩形 150530"/>
          <p:cNvSpPr/>
          <p:nvPr/>
        </p:nvSpPr>
        <p:spPr>
          <a:xfrm>
            <a:off x="395280" y="1052640"/>
            <a:ext cx="84247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、应用举例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例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Body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FONT STYLE="cursor:hand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lick="location='http://www.hubert.idv.tw/'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MouseOver="status='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最棒的在线学习网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'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.color='red';return true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MouseOut="status=''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.color='blue'"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网络技术学习网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/FONT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/Body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1"/>
              </a:rPr>
              <a:t>浏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文本框 151553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的事件处理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矩形 151554"/>
          <p:cNvSpPr/>
          <p:nvPr/>
        </p:nvSpPr>
        <p:spPr>
          <a:xfrm>
            <a:off x="395280" y="1052640"/>
            <a:ext cx="84247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、应用举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例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Body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FORM name=ff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请输入基本资料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BR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姓名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INPUT TYPE="text" NAME="usr" SIZE="8"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INPUT TYPE="button" VALUE="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请单击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lick="alert(fff.usr.value+' :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谢谢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!')"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/Body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                                              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1"/>
              </a:rPr>
              <a:t>浏览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文本框 152577"/>
          <p:cNvSpPr/>
          <p:nvPr/>
        </p:nvSpPr>
        <p:spPr>
          <a:xfrm>
            <a:off x="324000" y="1268280"/>
            <a:ext cx="856908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Script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提供了一些非常有用的常用内部对象和方法。用户不需要用脚本来实现这些功能。这正是基于对象编程的真正目的。本节主要介绍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Script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提供的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ray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（数组）、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（字符串）、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h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（数值计算）和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（日期）内置对象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文本框 152578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内置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文本框 153601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内置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矩形 153602"/>
          <p:cNvSpPr/>
          <p:nvPr/>
        </p:nvSpPr>
        <p:spPr>
          <a:xfrm>
            <a:off x="395280" y="1052640"/>
            <a:ext cx="84247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数组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(Array)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对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格式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对象名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new Array([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元素个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或 对象名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new Array([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值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[,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值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]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例如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uit=new Array(2)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声明了有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个元素的数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uit=new Array(“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苹果”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”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橘子”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声明了有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个  数组元素的数组，并赋值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属性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：数组元素的索引值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ngth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：数组长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数组元素个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方法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()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：将数组内的所有值组合成一个字符串，并用特定符号分开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String()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：以字符串来表示数组和数组值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erse()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：将数组内元素的索引次序翻转过来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文本框 154625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内置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矩形 154626"/>
          <p:cNvSpPr/>
          <p:nvPr/>
        </p:nvSpPr>
        <p:spPr>
          <a:xfrm>
            <a:off x="971640" y="1052640"/>
            <a:ext cx="784836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数组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(Array)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对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文本框 155649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内置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矩形 155650"/>
          <p:cNvSpPr/>
          <p:nvPr/>
        </p:nvSpPr>
        <p:spPr>
          <a:xfrm>
            <a:off x="395280" y="981000"/>
            <a:ext cx="84247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字符串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(String)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对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格式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字符串变量名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“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字符串常数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例如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 str1=”JavaScript”   //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定义字符串变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属性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ngth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：字符串长度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方法：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1"/>
              </a:rPr>
              <a:t>包括字符串显示和运算两类方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文本框 156673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内置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矩形 156674"/>
          <p:cNvSpPr/>
          <p:nvPr/>
        </p:nvSpPr>
        <p:spPr>
          <a:xfrm>
            <a:off x="395280" y="981000"/>
            <a:ext cx="842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宋体"/>
              </a:rPr>
              <a:t>字符串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(String)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宋体"/>
              </a:rPr>
              <a:t>对象的常用方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324000" y="1413000"/>
          <a:ext cx="8569080" cy="4619520"/>
        </p:xfrm>
        <a:graphic>
          <a:graphicData uri="http://schemas.openxmlformats.org/drawingml/2006/table">
            <a:tbl>
              <a:tblPr/>
              <a:tblGrid>
                <a:gridCol w="3168360"/>
                <a:gridCol w="5400720"/>
              </a:tblGrid>
              <a:tr h="703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chor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创建书签链接，相当于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A name=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 格式为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ing.anchor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创建超链接，相当于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lt;A href=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gt;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，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格式为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ing.link(UR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g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all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alics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ld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link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ntsize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ntcolo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创建字符显示格式，相当于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BIG&gt;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B&gt;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等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TML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标记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LowerCase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pperC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字符串大小写转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exOf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stindexO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返回指定子字符串在字符串中第一次出现的左、右索引位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tring(start,en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返回从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rt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开始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d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的子字符（不包括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d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置的字符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r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返回某字符串中指定的子字符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" name="文本框 156700"/>
          <p:cNvSpPr/>
          <p:nvPr/>
        </p:nvSpPr>
        <p:spPr>
          <a:xfrm>
            <a:off x="7451640" y="6093000"/>
            <a:ext cx="122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1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文本框 157697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内置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矩形 157698"/>
          <p:cNvSpPr/>
          <p:nvPr/>
        </p:nvSpPr>
        <p:spPr>
          <a:xfrm>
            <a:off x="395280" y="981000"/>
            <a:ext cx="84247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数学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(Math)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对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属性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：欧拉常量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自然对数的底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约等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.71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N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的自然对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约等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.69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N10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的自然对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约等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.30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OG2E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：以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为底的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的对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约等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.44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OG10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：以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为底的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的对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约等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.43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I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∏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的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约等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.14159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QRT1_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的平方根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约等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.70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QRT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的平方根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约等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.414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文本框 158721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内置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矩形 158722"/>
          <p:cNvSpPr/>
          <p:nvPr/>
        </p:nvSpPr>
        <p:spPr>
          <a:xfrm>
            <a:off x="395280" y="981000"/>
            <a:ext cx="84247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数学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(Math)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对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方法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()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返回某数的绝对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os()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返回某数的反余弦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以弧度为单位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in()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返回某数的反正弦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以弧度为单位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tan()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返回某数的反正切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以弧度为单位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eil()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返回大于或等于指定数的最小整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loor()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eil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相反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x()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返回两数间的较大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6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in()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返回两数问的较小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7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w()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返回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次方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其中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m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为底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n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为指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8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andom()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返回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之间的一个伪随机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ound()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返回某数四舍五入之后的整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文本框 159745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内置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矩形 159746"/>
          <p:cNvSpPr/>
          <p:nvPr/>
        </p:nvSpPr>
        <p:spPr>
          <a:xfrm>
            <a:off x="395280" y="1052640"/>
            <a:ext cx="84247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日期时间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(Date)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对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格式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对象名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new Date ( [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日期参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 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举例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day = new Date () //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以当日时间为对象初值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day = new Date (“October 1,2002 12:00:00”)  //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以英文表示月份，其余以数值表示，即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月日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年时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秒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】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day = new Date (“2002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8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7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)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一律以数字表示，即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日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时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秒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】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文本框 106497"/>
          <p:cNvSpPr/>
          <p:nvPr/>
        </p:nvSpPr>
        <p:spPr>
          <a:xfrm>
            <a:off x="1042920" y="1916280"/>
            <a:ext cx="78501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制作网页特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提供表单前端验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窗口动态操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提高系统工作效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文本框 106498"/>
          <p:cNvSpPr/>
          <p:nvPr/>
        </p:nvSpPr>
        <p:spPr>
          <a:xfrm>
            <a:off x="971640" y="105264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3. JavaScript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的功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文本框 106499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概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dur="indefinite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文本框 160769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内置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矩形 160770"/>
          <p:cNvSpPr/>
          <p:nvPr/>
        </p:nvSpPr>
        <p:spPr>
          <a:xfrm>
            <a:off x="395280" y="1052640"/>
            <a:ext cx="84247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日期时间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(Date)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对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方法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Year()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返回年份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Month()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返回月份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Date()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并返回日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Day()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返回星期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Hours()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返回小时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Minutes()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返回分钟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Seconds()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返回秒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Time()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返回完整的时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文本框 161793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内置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矩形 161794"/>
          <p:cNvSpPr/>
          <p:nvPr/>
        </p:nvSpPr>
        <p:spPr>
          <a:xfrm>
            <a:off x="395280" y="1052640"/>
            <a:ext cx="84247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日期时间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(Date)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对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方法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Date()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改变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对象的日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Hours()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改变小时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Minutes()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改变分钟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Month()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改变月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Seconds()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改变秒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Time()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改变完整的时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Year()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改变年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文本框 162817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内置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矩形 162818"/>
          <p:cNvSpPr/>
          <p:nvPr/>
        </p:nvSpPr>
        <p:spPr>
          <a:xfrm>
            <a:off x="395280" y="1052640"/>
            <a:ext cx="84247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日期时间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(Date)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对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提示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月份数为（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---11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日期数为（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---31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星期数为（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----6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小时数为（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---23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分钟数为（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---59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秒数为  （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---59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5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毫秒数为（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---999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）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文本框 164865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内置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矩形 164866"/>
          <p:cNvSpPr/>
          <p:nvPr/>
        </p:nvSpPr>
        <p:spPr>
          <a:xfrm>
            <a:off x="395280" y="1052640"/>
            <a:ext cx="84247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240" indent="-3240">
              <a:lnSpc>
                <a:spcPct val="100000"/>
              </a:lnSpc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5.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用户自定义对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40" indent="-3240">
              <a:lnSpc>
                <a:spcPct val="100000"/>
              </a:lnSpc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在实际应用应用中，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Script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提供的内置对象往往不能满足用户的需求，因此，常常需要建立用户自定义对象。对象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Object)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是一组经过组织的数据，在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Script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中的每一个对象都有两个相关的成员，即属性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Property)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和方法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Method)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建立自定义对象就是为对象定义属性和方法，其步骤是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40" indent="-3240">
              <a:lnSpc>
                <a:spcPct val="100000"/>
              </a:lnSpc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1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）写一个构造函数来定义对象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40" indent="-32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  <a:ea typeface="宋体"/>
              </a:rPr>
              <a:t>为对象类定义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40" indent="-324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  <a:ea typeface="宋体"/>
              </a:rPr>
              <a:t>为对象类定义方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40" indent="-3240">
              <a:lnSpc>
                <a:spcPct val="100000"/>
              </a:lnSpc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●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先将方法的名称放到对象的构造函数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40" indent="-3240">
              <a:lnSpc>
                <a:spcPct val="100000"/>
              </a:lnSpc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●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写一个函数来描述该对象方法的内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40" indent="-3240">
              <a:lnSpc>
                <a:spcPct val="100000"/>
              </a:lnSpc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2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）利用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new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创建对象实例（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Object Instance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1"/>
              </a:rPr>
              <a:t>举例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文本框 165889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内置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矩形 165890"/>
          <p:cNvSpPr/>
          <p:nvPr/>
        </p:nvSpPr>
        <p:spPr>
          <a:xfrm>
            <a:off x="395280" y="1052640"/>
            <a:ext cx="835344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作业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利用日期对象，对不同的进站时间，显示不同的提示信息。比如，上午六点到下午六点，显示“将有限的时间用在作最有意义的事”；其他时间显示“现在是休息时间”。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1"/>
              </a:rPr>
              <a:t>（答案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检测用户输入的邮件格式是否正确。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2"/>
              </a:rPr>
              <a:t>（答案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用户进入时，显示“欢迎您进入本网站！”；离开时，显示“谢谢您，欢迎下次再来！”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宋体"/>
              </a:rPr>
              <a:t>答案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Body onLoad="alert('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欢迎您进入本网站！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')"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UnLoad="alert('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谢谢您，欢迎下次再来！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')"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/Body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文本框 166913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对象及其层次关系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8" name="组合 166914"/>
          <p:cNvGrpSpPr/>
          <p:nvPr/>
        </p:nvGrpSpPr>
        <p:grpSpPr>
          <a:xfrm>
            <a:off x="2411280" y="2349360"/>
            <a:ext cx="2909880" cy="1257120"/>
            <a:chOff x="2411280" y="2349360"/>
            <a:chExt cx="2909880" cy="1257120"/>
          </a:xfrm>
        </p:grpSpPr>
        <p:sp>
          <p:nvSpPr>
            <p:cNvPr id="279" name="文本框 166915"/>
            <p:cNvSpPr/>
            <p:nvPr/>
          </p:nvSpPr>
          <p:spPr>
            <a:xfrm>
              <a:off x="2411280" y="2820960"/>
              <a:ext cx="109116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avigator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0" name="文本框 166916"/>
            <p:cNvSpPr/>
            <p:nvPr/>
          </p:nvSpPr>
          <p:spPr>
            <a:xfrm>
              <a:off x="4230000" y="2349360"/>
              <a:ext cx="109116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lugin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文本框 166917"/>
            <p:cNvSpPr/>
            <p:nvPr/>
          </p:nvSpPr>
          <p:spPr>
            <a:xfrm>
              <a:off x="4230000" y="3292200"/>
              <a:ext cx="109116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ineTyp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2" name="直接连接符 166918"/>
            <p:cNvSpPr/>
            <p:nvPr/>
          </p:nvSpPr>
          <p:spPr>
            <a:xfrm>
              <a:off x="3866400" y="2506320"/>
              <a:ext cx="0" cy="9428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" name="直接连接符 166919"/>
            <p:cNvSpPr/>
            <p:nvPr/>
          </p:nvSpPr>
          <p:spPr>
            <a:xfrm>
              <a:off x="3868200" y="2506320"/>
              <a:ext cx="3564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直接连接符 166920"/>
            <p:cNvSpPr/>
            <p:nvPr/>
          </p:nvSpPr>
          <p:spPr>
            <a:xfrm>
              <a:off x="3868200" y="3428640"/>
              <a:ext cx="3398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直接连接符 166921"/>
            <p:cNvSpPr/>
            <p:nvPr/>
          </p:nvSpPr>
          <p:spPr>
            <a:xfrm>
              <a:off x="3495240" y="2975040"/>
              <a:ext cx="3729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86" name="文本框 166922"/>
          <p:cNvSpPr/>
          <p:nvPr/>
        </p:nvSpPr>
        <p:spPr>
          <a:xfrm>
            <a:off x="250920" y="2909880"/>
            <a:ext cx="109044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文本框 166923"/>
          <p:cNvSpPr/>
          <p:nvPr/>
        </p:nvSpPr>
        <p:spPr>
          <a:xfrm>
            <a:off x="2230560" y="1703520"/>
            <a:ext cx="109044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文本框 166924"/>
          <p:cNvSpPr/>
          <p:nvPr/>
        </p:nvSpPr>
        <p:spPr>
          <a:xfrm>
            <a:off x="2228760" y="2444760"/>
            <a:ext cx="109080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文本框 166925"/>
          <p:cNvSpPr/>
          <p:nvPr/>
        </p:nvSpPr>
        <p:spPr>
          <a:xfrm>
            <a:off x="2228760" y="3214800"/>
            <a:ext cx="109080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文本框 166926"/>
          <p:cNvSpPr/>
          <p:nvPr/>
        </p:nvSpPr>
        <p:spPr>
          <a:xfrm>
            <a:off x="2281320" y="4046400"/>
            <a:ext cx="1090440" cy="31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文本框 166927"/>
          <p:cNvSpPr/>
          <p:nvPr/>
        </p:nvSpPr>
        <p:spPr>
          <a:xfrm>
            <a:off x="4362480" y="4799160"/>
            <a:ext cx="109044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k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文本框 166928"/>
          <p:cNvSpPr/>
          <p:nvPr/>
        </p:nvSpPr>
        <p:spPr>
          <a:xfrm>
            <a:off x="4365720" y="4286160"/>
            <a:ext cx="109044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ch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文本框 166929"/>
          <p:cNvSpPr/>
          <p:nvPr/>
        </p:nvSpPr>
        <p:spPr>
          <a:xfrm>
            <a:off x="4362480" y="3801960"/>
            <a:ext cx="109044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文本框 166930"/>
          <p:cNvSpPr/>
          <p:nvPr/>
        </p:nvSpPr>
        <p:spPr>
          <a:xfrm>
            <a:off x="4365720" y="3287880"/>
            <a:ext cx="109044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文本框 166931"/>
          <p:cNvSpPr/>
          <p:nvPr/>
        </p:nvSpPr>
        <p:spPr>
          <a:xfrm>
            <a:off x="4365720" y="2789280"/>
            <a:ext cx="109044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文本框 166932"/>
          <p:cNvSpPr/>
          <p:nvPr/>
        </p:nvSpPr>
        <p:spPr>
          <a:xfrm>
            <a:off x="4362480" y="2319480"/>
            <a:ext cx="109044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文本框 166933"/>
          <p:cNvSpPr/>
          <p:nvPr/>
        </p:nvSpPr>
        <p:spPr>
          <a:xfrm>
            <a:off x="4365720" y="1854360"/>
            <a:ext cx="109044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文本框 166934"/>
          <p:cNvSpPr/>
          <p:nvPr/>
        </p:nvSpPr>
        <p:spPr>
          <a:xfrm>
            <a:off x="4351320" y="1397160"/>
            <a:ext cx="109080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y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文本框 166935"/>
          <p:cNvSpPr/>
          <p:nvPr/>
        </p:nvSpPr>
        <p:spPr>
          <a:xfrm>
            <a:off x="6234120" y="4527720"/>
            <a:ext cx="109044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ckBo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文本框 166936"/>
          <p:cNvSpPr/>
          <p:nvPr/>
        </p:nvSpPr>
        <p:spPr>
          <a:xfrm>
            <a:off x="6235560" y="4013280"/>
            <a:ext cx="109080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文本框 166937"/>
          <p:cNvSpPr/>
          <p:nvPr/>
        </p:nvSpPr>
        <p:spPr>
          <a:xfrm>
            <a:off x="6234120" y="3529080"/>
            <a:ext cx="109044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m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文本框 166938"/>
          <p:cNvSpPr/>
          <p:nvPr/>
        </p:nvSpPr>
        <p:spPr>
          <a:xfrm>
            <a:off x="6235560" y="3016080"/>
            <a:ext cx="1090800" cy="31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dd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文本框 166939"/>
          <p:cNvSpPr/>
          <p:nvPr/>
        </p:nvSpPr>
        <p:spPr>
          <a:xfrm>
            <a:off x="6235560" y="2516040"/>
            <a:ext cx="1090800" cy="31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ssw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文本框 166940"/>
          <p:cNvSpPr/>
          <p:nvPr/>
        </p:nvSpPr>
        <p:spPr>
          <a:xfrm>
            <a:off x="6234120" y="2060640"/>
            <a:ext cx="1362240" cy="30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Up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文本框 166941"/>
          <p:cNvSpPr/>
          <p:nvPr/>
        </p:nvSpPr>
        <p:spPr>
          <a:xfrm>
            <a:off x="6235560" y="1582560"/>
            <a:ext cx="1090800" cy="31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文本框 166942"/>
          <p:cNvSpPr/>
          <p:nvPr/>
        </p:nvSpPr>
        <p:spPr>
          <a:xfrm>
            <a:off x="6221520" y="1125360"/>
            <a:ext cx="1090440" cy="31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ar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文本框 166943"/>
          <p:cNvSpPr/>
          <p:nvPr/>
        </p:nvSpPr>
        <p:spPr>
          <a:xfrm>
            <a:off x="6234120" y="5978520"/>
            <a:ext cx="109044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文本框 166944"/>
          <p:cNvSpPr/>
          <p:nvPr/>
        </p:nvSpPr>
        <p:spPr>
          <a:xfrm>
            <a:off x="6235560" y="5465880"/>
            <a:ext cx="109080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文本框 166945"/>
          <p:cNvSpPr/>
          <p:nvPr/>
        </p:nvSpPr>
        <p:spPr>
          <a:xfrm>
            <a:off x="6234120" y="4981680"/>
            <a:ext cx="109044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t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直接连接符 166946"/>
          <p:cNvSpPr/>
          <p:nvPr/>
        </p:nvSpPr>
        <p:spPr>
          <a:xfrm>
            <a:off x="1879560" y="1854360"/>
            <a:ext cx="0" cy="2373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直接连接符 166947"/>
          <p:cNvSpPr/>
          <p:nvPr/>
        </p:nvSpPr>
        <p:spPr>
          <a:xfrm>
            <a:off x="1379520" y="3063960"/>
            <a:ext cx="50004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直接连接符 166948"/>
          <p:cNvSpPr/>
          <p:nvPr/>
        </p:nvSpPr>
        <p:spPr>
          <a:xfrm>
            <a:off x="1879560" y="1870200"/>
            <a:ext cx="3729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直接连接符 166949"/>
          <p:cNvSpPr/>
          <p:nvPr/>
        </p:nvSpPr>
        <p:spPr>
          <a:xfrm>
            <a:off x="1879560" y="259560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直接连接符 166950"/>
          <p:cNvSpPr/>
          <p:nvPr/>
        </p:nvSpPr>
        <p:spPr>
          <a:xfrm>
            <a:off x="1879560" y="336708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直接连接符 166951"/>
          <p:cNvSpPr/>
          <p:nvPr/>
        </p:nvSpPr>
        <p:spPr>
          <a:xfrm>
            <a:off x="1879560" y="4197240"/>
            <a:ext cx="4078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直接连接符 166952"/>
          <p:cNvSpPr/>
          <p:nvPr/>
        </p:nvSpPr>
        <p:spPr>
          <a:xfrm>
            <a:off x="3840120" y="1536840"/>
            <a:ext cx="0" cy="3462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直接连接符 166953"/>
          <p:cNvSpPr/>
          <p:nvPr/>
        </p:nvSpPr>
        <p:spPr>
          <a:xfrm>
            <a:off x="3840120" y="4998960"/>
            <a:ext cx="5158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直接连接符 166954"/>
          <p:cNvSpPr/>
          <p:nvPr/>
        </p:nvSpPr>
        <p:spPr>
          <a:xfrm>
            <a:off x="3821040" y="4424400"/>
            <a:ext cx="5349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直接连接符 166955"/>
          <p:cNvSpPr/>
          <p:nvPr/>
        </p:nvSpPr>
        <p:spPr>
          <a:xfrm>
            <a:off x="3855960" y="3925800"/>
            <a:ext cx="4827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直接连接符 166956"/>
          <p:cNvSpPr/>
          <p:nvPr/>
        </p:nvSpPr>
        <p:spPr>
          <a:xfrm>
            <a:off x="3855960" y="3427560"/>
            <a:ext cx="50004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直接连接符 166957"/>
          <p:cNvSpPr/>
          <p:nvPr/>
        </p:nvSpPr>
        <p:spPr>
          <a:xfrm>
            <a:off x="3840120" y="2913120"/>
            <a:ext cx="5158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直接连接符 166958"/>
          <p:cNvSpPr/>
          <p:nvPr/>
        </p:nvSpPr>
        <p:spPr>
          <a:xfrm>
            <a:off x="3840120" y="2475000"/>
            <a:ext cx="5349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直接连接符 166959"/>
          <p:cNvSpPr/>
          <p:nvPr/>
        </p:nvSpPr>
        <p:spPr>
          <a:xfrm>
            <a:off x="3840120" y="1990800"/>
            <a:ext cx="5158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直接连接符 166960"/>
          <p:cNvSpPr/>
          <p:nvPr/>
        </p:nvSpPr>
        <p:spPr>
          <a:xfrm>
            <a:off x="3855960" y="1522440"/>
            <a:ext cx="4827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直接连接符 166961"/>
          <p:cNvSpPr/>
          <p:nvPr/>
        </p:nvSpPr>
        <p:spPr>
          <a:xfrm>
            <a:off x="3321000" y="2610000"/>
            <a:ext cx="5191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直接连接符 166962"/>
          <p:cNvSpPr/>
          <p:nvPr/>
        </p:nvSpPr>
        <p:spPr>
          <a:xfrm>
            <a:off x="5888160" y="1279440"/>
            <a:ext cx="0" cy="49150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直接连接符 166963"/>
          <p:cNvSpPr/>
          <p:nvPr/>
        </p:nvSpPr>
        <p:spPr>
          <a:xfrm>
            <a:off x="5888160" y="1279440"/>
            <a:ext cx="3412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直接连接符 166964"/>
          <p:cNvSpPr/>
          <p:nvPr/>
        </p:nvSpPr>
        <p:spPr>
          <a:xfrm>
            <a:off x="5907240" y="1747800"/>
            <a:ext cx="33804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直接连接符 166965"/>
          <p:cNvSpPr/>
          <p:nvPr/>
        </p:nvSpPr>
        <p:spPr>
          <a:xfrm>
            <a:off x="5888160" y="2217600"/>
            <a:ext cx="3222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直接连接符 166966"/>
          <p:cNvSpPr/>
          <p:nvPr/>
        </p:nvSpPr>
        <p:spPr>
          <a:xfrm>
            <a:off x="5907240" y="2700360"/>
            <a:ext cx="3222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直接连接符 166967"/>
          <p:cNvSpPr/>
          <p:nvPr/>
        </p:nvSpPr>
        <p:spPr>
          <a:xfrm>
            <a:off x="5872320" y="3170160"/>
            <a:ext cx="3571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直接连接符 166968"/>
          <p:cNvSpPr/>
          <p:nvPr/>
        </p:nvSpPr>
        <p:spPr>
          <a:xfrm>
            <a:off x="5888160" y="3699000"/>
            <a:ext cx="3412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直接连接符 166969"/>
          <p:cNvSpPr/>
          <p:nvPr/>
        </p:nvSpPr>
        <p:spPr>
          <a:xfrm>
            <a:off x="5888160" y="4197240"/>
            <a:ext cx="3412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直接连接符 166970"/>
          <p:cNvSpPr/>
          <p:nvPr/>
        </p:nvSpPr>
        <p:spPr>
          <a:xfrm>
            <a:off x="5872320" y="4697280"/>
            <a:ext cx="3204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直接连接符 166971"/>
          <p:cNvSpPr/>
          <p:nvPr/>
        </p:nvSpPr>
        <p:spPr>
          <a:xfrm>
            <a:off x="5888160" y="5149800"/>
            <a:ext cx="3571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直接连接符 166972"/>
          <p:cNvSpPr/>
          <p:nvPr/>
        </p:nvSpPr>
        <p:spPr>
          <a:xfrm>
            <a:off x="5888160" y="5619600"/>
            <a:ext cx="3412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直接连接符 166973"/>
          <p:cNvSpPr/>
          <p:nvPr/>
        </p:nvSpPr>
        <p:spPr>
          <a:xfrm>
            <a:off x="5872320" y="6164280"/>
            <a:ext cx="33804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直接连接符 166974"/>
          <p:cNvSpPr/>
          <p:nvPr/>
        </p:nvSpPr>
        <p:spPr>
          <a:xfrm>
            <a:off x="5495760" y="2943360"/>
            <a:ext cx="3924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文本框 166975"/>
          <p:cNvSpPr/>
          <p:nvPr/>
        </p:nvSpPr>
        <p:spPr>
          <a:xfrm>
            <a:off x="7802640" y="5994360"/>
            <a:ext cx="109044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直接连接符 166976"/>
          <p:cNvSpPr/>
          <p:nvPr/>
        </p:nvSpPr>
        <p:spPr>
          <a:xfrm>
            <a:off x="7315200" y="6148440"/>
            <a:ext cx="4636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0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0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0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0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0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1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1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1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1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1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1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1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1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2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2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2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2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2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2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2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2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3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3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3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3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3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3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3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3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4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4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4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4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4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4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4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4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5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5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5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5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5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5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6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6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6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6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6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6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6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6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7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7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7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7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7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7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7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7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8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8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8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8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8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8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9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9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9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9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9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9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9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9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0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0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0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0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0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0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0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0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1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1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1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1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1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1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1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1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2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2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2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2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2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2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2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2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3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3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3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3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3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3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3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3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4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4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4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4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4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4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5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5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5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5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6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6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6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6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7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7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7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7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7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7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8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8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8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8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8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8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8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8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9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9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9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9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9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9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9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9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0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50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0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0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0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50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0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0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1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51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文本框 167937"/>
          <p:cNvSpPr/>
          <p:nvPr/>
        </p:nvSpPr>
        <p:spPr>
          <a:xfrm>
            <a:off x="324000" y="907920"/>
            <a:ext cx="842472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功能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顶层对象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用来表示浏览器所打开的窗口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格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指定窗口：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	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         窗口名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	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	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窗口名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方法（参数群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打开当前窗口的窗口：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pener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pener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方法（参数群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框架中的顶级窗口：   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op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属性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	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	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	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         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op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方法（参数群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当前活动窗口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lf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lf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方法（参数群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宋体"/>
              </a:rPr>
              <a:t>例如：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in1.document.title=“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宋体"/>
              </a:rPr>
              <a:t>广告窗口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        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self.close()           opener.document.forms[0].user.value=“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宋体"/>
              </a:rPr>
              <a:t>张永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文本框 167938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窗口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WINDOW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0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5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文本框 168961"/>
          <p:cNvSpPr/>
          <p:nvPr/>
        </p:nvSpPr>
        <p:spPr>
          <a:xfrm>
            <a:off x="250920" y="981000"/>
            <a:ext cx="85690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Name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窗口的名字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closed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判断窗口是否已经被关闭，返回布尔值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documen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包含当前文档的信息，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该属性本身也是一个对象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frame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窗口的框架对象数组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以数组索引值表示，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该属性本身也是一个对象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histor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当前窗口最近浏览过的网页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该属性本身也是一个对象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loca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窗口所显示文档的完整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RL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该属性本身也是一个对象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length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窗口内的框架个数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opener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代表使用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打开当前窗口的脚本所在的窗口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self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代表当前窗口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top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代表当前框架的最顶层窗口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文本框 168962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窗口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WINDOW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0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文本框 169985"/>
          <p:cNvSpPr/>
          <p:nvPr/>
        </p:nvSpPr>
        <p:spPr>
          <a:xfrm>
            <a:off x="250920" y="981000"/>
            <a:ext cx="85690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defaultStatu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缺省的状态栏信息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statu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状态栏中的信息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scrollbar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浏览器的滚动条（包括水平和垂直滚动条）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toolbar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浏览器的工具栏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menuba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浏览器的菜单栏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locationbar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浏览器的地址栏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innerHeigh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窗口内容区的高度（以像素表示）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innerWidth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窗口内容区的宽度（以像素表示）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outerHeigh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窗口边界的高度（以像素表示）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outerWidth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窗口边界的宽度（以像素表示）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pageXOffse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网页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-position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的位置（以像素表示）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pageYOffse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网页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y-position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的位置（以像素表示）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文本框 169986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窗口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WINDOW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文本框 171009"/>
          <p:cNvSpPr/>
          <p:nvPr/>
        </p:nvSpPr>
        <p:spPr>
          <a:xfrm>
            <a:off x="250920" y="981000"/>
            <a:ext cx="84978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方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open(URL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宋体"/>
              </a:rPr>
              <a:t>，窗口名称，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[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宋体"/>
              </a:rPr>
              <a:t>，窗口规格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]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打开一个新窗口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close(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关闭窗口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MoveBy(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宋体"/>
              </a:rPr>
              <a:t>水平点数，垂直点数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MoveTo(x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y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将窗口移动至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,y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）坐标处，参数取绝对值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ResizeBy(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宋体"/>
              </a:rPr>
              <a:t>水平点数，垂直点数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调整窗口大小（往右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往下），参数取相对值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ResizeTo(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宋体"/>
              </a:rPr>
              <a:t>宽度，高度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setTimeout(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宋体"/>
              </a:rPr>
              <a:t>表达式，毫秒数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等待一段指定的毫秒数时间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然后运行指令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clearTimeout(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宋体"/>
              </a:rPr>
              <a:t>定时器对象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清除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tTimeout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定义的计时程序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文本框 171010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窗口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WINDOW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0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文本框 107521"/>
          <p:cNvSpPr/>
          <p:nvPr/>
        </p:nvSpPr>
        <p:spPr>
          <a:xfrm>
            <a:off x="250920" y="1916280"/>
            <a:ext cx="86421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TM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标记中直接写入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JavaScrip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代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例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&lt;HTML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&lt;BODY&gt;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&lt;P  </a:t>
            </a:r>
            <a:r>
              <a:rPr b="0" lang="en-US" sz="2800" spc="-1" strike="noStrike">
                <a:solidFill>
                  <a:srgbClr val="e33e1d"/>
                </a:solidFill>
                <a:latin typeface="Tahoma"/>
              </a:rPr>
              <a:t>onmouseover="alert('</a:t>
            </a:r>
            <a:r>
              <a:rPr b="0" lang="zh-CN" sz="2800" spc="-1" strike="noStrike">
                <a:solidFill>
                  <a:srgbClr val="e33e1d"/>
                </a:solidFill>
                <a:latin typeface="Tahoma"/>
                <a:ea typeface="宋体"/>
              </a:rPr>
              <a:t>欢迎您学习</a:t>
            </a:r>
            <a:r>
              <a:rPr b="0" lang="en-US" sz="2800" spc="-1" strike="noStrike">
                <a:solidFill>
                  <a:srgbClr val="e33e1d"/>
                </a:solidFill>
                <a:latin typeface="Tahoma"/>
              </a:rPr>
              <a:t>JavaScript!')"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&gt;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鼠标移过来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&lt;/P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&lt;/BODY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&lt;/HTML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                                                      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2"/>
              </a:rPr>
              <a:t>运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文本框 107522"/>
          <p:cNvSpPr/>
          <p:nvPr/>
        </p:nvSpPr>
        <p:spPr>
          <a:xfrm>
            <a:off x="250920" y="105264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4. 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在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HTML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文档中嵌入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JavaScript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代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文本框 107523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概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文本框 172033"/>
          <p:cNvSpPr/>
          <p:nvPr/>
        </p:nvSpPr>
        <p:spPr>
          <a:xfrm>
            <a:off x="250920" y="981000"/>
            <a:ext cx="85690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方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setInterval(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宋体"/>
              </a:rPr>
              <a:t>表达式，毫秒数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设置一个定时程序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clearInterval(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宋体"/>
              </a:rPr>
              <a:t>定时器对象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清除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tInterval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定义的计时器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focus(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将焦点移到此窗口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blur(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把焦点从指定窗口移开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ome()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进入客户端在浏览器上设置的主页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stop(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停止加载网页内容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back(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返回历史记录的上一个网页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forward(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加载历史记录的下一个网页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alert(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宋体"/>
              </a:rPr>
              <a:t>字符串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传送警告信息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confirm(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宋体"/>
              </a:rPr>
              <a:t>字符串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打开一个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firm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消息框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用户可以选择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K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ncel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，如果用户单击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K,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该方法返回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u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，单击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ncel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返回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als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prompt(“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宋体"/>
              </a:rPr>
              <a:t>提示字符串”，默认值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打开一个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mpt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对话框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用户可向该框键入文本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并把键入的文本返回到脚本。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文本框 172034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窗口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WINDOW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0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文本框 173057"/>
          <p:cNvSpPr/>
          <p:nvPr/>
        </p:nvSpPr>
        <p:spPr>
          <a:xfrm>
            <a:off x="1042920" y="981000"/>
            <a:ext cx="66261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5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事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onBlu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onDragDr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on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onFoc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onLoa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onUn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onMo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onResiz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文本框 173058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窗口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WINDOW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文本框 176129"/>
          <p:cNvSpPr/>
          <p:nvPr/>
        </p:nvSpPr>
        <p:spPr>
          <a:xfrm>
            <a:off x="250920" y="981000"/>
            <a:ext cx="85690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功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它为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indow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对象的一个属性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用来存储客户端最近访问过的网页清单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格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istory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istory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方法（参数）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ength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存储在记录清单中的网页数目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urrent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当前网页的地址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ext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下一个历史记录的网页地址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evious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上一个历史记录的网页地址。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文本框 176130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历史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HISTORY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0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文本框 177153"/>
          <p:cNvSpPr/>
          <p:nvPr/>
        </p:nvSpPr>
        <p:spPr>
          <a:xfrm>
            <a:off x="250920" y="981000"/>
            <a:ext cx="856908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方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back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回到客户端查看过的上一页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forward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回到客户端查看过的下一页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go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（整数或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URL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字符串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前往历史记录中的某个网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文本框 177154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历史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HISTORY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文本框 177155"/>
          <p:cNvSpPr/>
          <p:nvPr/>
        </p:nvSpPr>
        <p:spPr>
          <a:xfrm>
            <a:off x="7596360" y="6021360"/>
            <a:ext cx="93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4"/>
              </a:rPr>
              <a:t>继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0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000"/>
                            </p:stCondLst>
                            <p:childTnLst>
                              <p:par>
                                <p:cTn id="56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文本框 178177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历史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HISTORY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59" name="组合 178178"/>
          <p:cNvGrpSpPr/>
          <p:nvPr/>
        </p:nvGrpSpPr>
        <p:grpSpPr>
          <a:xfrm>
            <a:off x="611280" y="1484280"/>
            <a:ext cx="1224000" cy="2232000"/>
            <a:chOff x="611280" y="1484280"/>
            <a:chExt cx="1224000" cy="2232000"/>
          </a:xfrm>
        </p:grpSpPr>
        <p:sp>
          <p:nvSpPr>
            <p:cNvPr id="360" name="矩形 178179"/>
            <p:cNvSpPr/>
            <p:nvPr/>
          </p:nvSpPr>
          <p:spPr>
            <a:xfrm>
              <a:off x="611280" y="1989000"/>
              <a:ext cx="1224000" cy="172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" name="文本框 178180"/>
            <p:cNvSpPr/>
            <p:nvPr/>
          </p:nvSpPr>
          <p:spPr>
            <a:xfrm>
              <a:off x="826920" y="1484280"/>
              <a:ext cx="86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IN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2" name="组合 178181"/>
          <p:cNvGrpSpPr/>
          <p:nvPr/>
        </p:nvGrpSpPr>
        <p:grpSpPr>
          <a:xfrm>
            <a:off x="1979640" y="1484280"/>
            <a:ext cx="1224000" cy="2232000"/>
            <a:chOff x="1979640" y="1484280"/>
            <a:chExt cx="1224000" cy="2232000"/>
          </a:xfrm>
        </p:grpSpPr>
        <p:sp>
          <p:nvSpPr>
            <p:cNvPr id="363" name="矩形 178182"/>
            <p:cNvSpPr/>
            <p:nvPr/>
          </p:nvSpPr>
          <p:spPr>
            <a:xfrm>
              <a:off x="1979640" y="1989000"/>
              <a:ext cx="1224000" cy="172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文本框 178183"/>
            <p:cNvSpPr/>
            <p:nvPr/>
          </p:nvSpPr>
          <p:spPr>
            <a:xfrm>
              <a:off x="2124000" y="1484280"/>
              <a:ext cx="86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IN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5" name="组合 178184"/>
          <p:cNvGrpSpPr/>
          <p:nvPr/>
        </p:nvGrpSpPr>
        <p:grpSpPr>
          <a:xfrm>
            <a:off x="3348000" y="1484280"/>
            <a:ext cx="1224000" cy="2232000"/>
            <a:chOff x="3348000" y="1484280"/>
            <a:chExt cx="1224000" cy="2232000"/>
          </a:xfrm>
        </p:grpSpPr>
        <p:sp>
          <p:nvSpPr>
            <p:cNvPr id="366" name="矩形 178185"/>
            <p:cNvSpPr/>
            <p:nvPr/>
          </p:nvSpPr>
          <p:spPr>
            <a:xfrm>
              <a:off x="3348000" y="1989000"/>
              <a:ext cx="1224000" cy="172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文本框 178186"/>
            <p:cNvSpPr/>
            <p:nvPr/>
          </p:nvSpPr>
          <p:spPr>
            <a:xfrm>
              <a:off x="3492360" y="1484280"/>
              <a:ext cx="86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IN3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8" name="组合 178187"/>
          <p:cNvGrpSpPr/>
          <p:nvPr/>
        </p:nvGrpSpPr>
        <p:grpSpPr>
          <a:xfrm>
            <a:off x="4714920" y="1484280"/>
            <a:ext cx="1224000" cy="2232000"/>
            <a:chOff x="4714920" y="1484280"/>
            <a:chExt cx="1224000" cy="2232000"/>
          </a:xfrm>
        </p:grpSpPr>
        <p:sp>
          <p:nvSpPr>
            <p:cNvPr id="369" name="矩形 178188"/>
            <p:cNvSpPr/>
            <p:nvPr/>
          </p:nvSpPr>
          <p:spPr>
            <a:xfrm>
              <a:off x="4714920" y="1989000"/>
              <a:ext cx="1224000" cy="172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0" name="文本框 178189"/>
            <p:cNvSpPr/>
            <p:nvPr/>
          </p:nvSpPr>
          <p:spPr>
            <a:xfrm>
              <a:off x="4859280" y="1484280"/>
              <a:ext cx="86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IN4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71" name="组合 178190"/>
          <p:cNvGrpSpPr/>
          <p:nvPr/>
        </p:nvGrpSpPr>
        <p:grpSpPr>
          <a:xfrm>
            <a:off x="6083280" y="1484280"/>
            <a:ext cx="1224000" cy="2232000"/>
            <a:chOff x="6083280" y="1484280"/>
            <a:chExt cx="1224000" cy="2232000"/>
          </a:xfrm>
        </p:grpSpPr>
        <p:sp>
          <p:nvSpPr>
            <p:cNvPr id="372" name="矩形 178191"/>
            <p:cNvSpPr/>
            <p:nvPr/>
          </p:nvSpPr>
          <p:spPr>
            <a:xfrm>
              <a:off x="6083280" y="1989000"/>
              <a:ext cx="1224000" cy="172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3" name="文本框 178192"/>
            <p:cNvSpPr/>
            <p:nvPr/>
          </p:nvSpPr>
          <p:spPr>
            <a:xfrm>
              <a:off x="6227640" y="1484280"/>
              <a:ext cx="86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IN5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74" name="组合 178193"/>
          <p:cNvGrpSpPr/>
          <p:nvPr/>
        </p:nvGrpSpPr>
        <p:grpSpPr>
          <a:xfrm>
            <a:off x="7451640" y="1484280"/>
            <a:ext cx="1224000" cy="2232000"/>
            <a:chOff x="7451640" y="1484280"/>
            <a:chExt cx="1224000" cy="2232000"/>
          </a:xfrm>
        </p:grpSpPr>
        <p:sp>
          <p:nvSpPr>
            <p:cNvPr id="375" name="矩形 178194"/>
            <p:cNvSpPr/>
            <p:nvPr/>
          </p:nvSpPr>
          <p:spPr>
            <a:xfrm>
              <a:off x="7451640" y="1989000"/>
              <a:ext cx="1224000" cy="172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文本框 178195"/>
            <p:cNvSpPr/>
            <p:nvPr/>
          </p:nvSpPr>
          <p:spPr>
            <a:xfrm>
              <a:off x="7667640" y="1484280"/>
              <a:ext cx="86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IN6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7" name="文本框 178196"/>
          <p:cNvSpPr/>
          <p:nvPr/>
        </p:nvSpPr>
        <p:spPr>
          <a:xfrm>
            <a:off x="611280" y="414972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y.back(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文本框 178197"/>
          <p:cNvSpPr/>
          <p:nvPr/>
        </p:nvSpPr>
        <p:spPr>
          <a:xfrm>
            <a:off x="611280" y="4726080"/>
            <a:ext cx="273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y.forward(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文本框 178198"/>
          <p:cNvSpPr/>
          <p:nvPr/>
        </p:nvSpPr>
        <p:spPr>
          <a:xfrm>
            <a:off x="611280" y="537372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y.go(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文本框 178199"/>
          <p:cNvSpPr/>
          <p:nvPr/>
        </p:nvSpPr>
        <p:spPr>
          <a:xfrm>
            <a:off x="7020000" y="6093000"/>
            <a:ext cx="1439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1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文本框 179201"/>
          <p:cNvSpPr/>
          <p:nvPr/>
        </p:nvSpPr>
        <p:spPr>
          <a:xfrm>
            <a:off x="250920" y="981000"/>
            <a:ext cx="85690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功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代表特定窗口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R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信息。一个完整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R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格式如下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Tahoma"/>
              </a:rPr>
              <a:t>protocol // host</a:t>
            </a:r>
            <a:r>
              <a:rPr b="1" i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1" i="1" lang="en-US" sz="2800" spc="-1" strike="noStrike">
                <a:solidFill>
                  <a:srgbClr val="0000ff"/>
                </a:solidFill>
                <a:latin typeface="Tahoma"/>
              </a:rPr>
              <a:t>port / path # hash ? 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其中  </a:t>
            </a:r>
            <a:r>
              <a:rPr b="1" i="1" lang="en-US" sz="2800" spc="-1" strike="noStrike">
                <a:solidFill>
                  <a:srgbClr val="0000ff"/>
                </a:solidFill>
                <a:latin typeface="Tahoma"/>
              </a:rPr>
              <a:t>protocol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通信协议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  </a:t>
            </a:r>
            <a:r>
              <a:rPr b="1" i="1" lang="en-US" sz="2800" spc="-1" strike="noStrike">
                <a:solidFill>
                  <a:srgbClr val="0000ff"/>
                </a:solidFill>
                <a:latin typeface="Tahoma"/>
              </a:rPr>
              <a:t>hos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主机名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        </a:t>
            </a:r>
            <a:r>
              <a:rPr b="1" i="1" lang="en-US" sz="2800" spc="-1" strike="noStrike">
                <a:solidFill>
                  <a:srgbClr val="0000ff"/>
                </a:solidFill>
                <a:latin typeface="Tahoma"/>
              </a:rPr>
              <a:t>por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通信端口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i="1" lang="en-US" sz="2800" spc="-1" strike="noStrike">
                <a:solidFill>
                  <a:srgbClr val="0000ff"/>
                </a:solidFill>
                <a:latin typeface="Tahoma"/>
              </a:rPr>
              <a:t>path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文件路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i="1" lang="en-US" sz="2800" spc="-1" strike="noStrike">
                <a:solidFill>
                  <a:srgbClr val="0000ff"/>
                </a:solidFill>
                <a:latin typeface="Tahoma"/>
              </a:rPr>
              <a:t>hash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定位锚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i="1" lang="en-US" sz="2800" spc="-1" strike="noStrike">
                <a:solidFill>
                  <a:srgbClr val="0000ff"/>
                </a:solidFill>
                <a:latin typeface="Tahoma"/>
              </a:rPr>
              <a:t>search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查询信息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文本框 179202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位置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LOCATION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0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5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文本框 180225"/>
          <p:cNvSpPr/>
          <p:nvPr/>
        </p:nvSpPr>
        <p:spPr>
          <a:xfrm>
            <a:off x="250920" y="907920"/>
            <a:ext cx="856908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语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cation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cation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方法（参数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hash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UR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中定位锚点名称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host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UR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中主机名部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hostname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R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中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os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or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部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href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完整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R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字符串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pathnam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UR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中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部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port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UR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端口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or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部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protocol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UR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的通信协议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search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以问号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?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开始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R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中的一部分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用于指定搜索信息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文本框 180226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位置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LOCATION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0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文本框 181249"/>
          <p:cNvSpPr/>
          <p:nvPr/>
        </p:nvSpPr>
        <p:spPr>
          <a:xfrm>
            <a:off x="250920" y="981000"/>
            <a:ext cx="85690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方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load()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重新加载（刷新）当前的网页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lace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网址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用特定的网页取代当前的网页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文本框 181250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位置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LOCATION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文本框 182273"/>
          <p:cNvSpPr/>
          <p:nvPr/>
        </p:nvSpPr>
        <p:spPr>
          <a:xfrm>
            <a:off x="250920" y="907920"/>
            <a:ext cx="856908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每一个框架对象相当于窗口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(WINDOW)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对象，因此框架对象可以使用窗口对象的所有属性和方法。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文本框 182274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框架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FRAME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9" name="组合 182275"/>
          <p:cNvGrpSpPr/>
          <p:nvPr/>
        </p:nvGrpSpPr>
        <p:grpSpPr>
          <a:xfrm>
            <a:off x="3132000" y="1844640"/>
            <a:ext cx="4392360" cy="1728720"/>
            <a:chOff x="3132000" y="1844640"/>
            <a:chExt cx="4392360" cy="1728720"/>
          </a:xfrm>
        </p:grpSpPr>
        <p:sp>
          <p:nvSpPr>
            <p:cNvPr id="390" name="矩形 182276"/>
            <p:cNvSpPr/>
            <p:nvPr/>
          </p:nvSpPr>
          <p:spPr>
            <a:xfrm>
              <a:off x="3132000" y="2205000"/>
              <a:ext cx="4392360" cy="1368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直接连接符 182277"/>
            <p:cNvSpPr/>
            <p:nvPr/>
          </p:nvSpPr>
          <p:spPr>
            <a:xfrm>
              <a:off x="3132000" y="2781360"/>
              <a:ext cx="439236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直接连接符 182278"/>
            <p:cNvSpPr/>
            <p:nvPr/>
          </p:nvSpPr>
          <p:spPr>
            <a:xfrm>
              <a:off x="4932000" y="2781360"/>
              <a:ext cx="0" cy="79200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文本框 182279"/>
            <p:cNvSpPr/>
            <p:nvPr/>
          </p:nvSpPr>
          <p:spPr>
            <a:xfrm>
              <a:off x="5436720" y="2997000"/>
              <a:ext cx="171324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ownFram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文本框 182280"/>
            <p:cNvSpPr/>
            <p:nvPr/>
          </p:nvSpPr>
          <p:spPr>
            <a:xfrm>
              <a:off x="4644720" y="2278080"/>
              <a:ext cx="135108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pFram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文本框 182281"/>
            <p:cNvSpPr/>
            <p:nvPr/>
          </p:nvSpPr>
          <p:spPr>
            <a:xfrm>
              <a:off x="3276360" y="2925720"/>
              <a:ext cx="137484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eftFram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文本框 182282"/>
            <p:cNvSpPr/>
            <p:nvPr/>
          </p:nvSpPr>
          <p:spPr>
            <a:xfrm>
              <a:off x="4984560" y="1844640"/>
              <a:ext cx="820800" cy="31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o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97" name="组合 182283"/>
          <p:cNvGrpSpPr/>
          <p:nvPr/>
        </p:nvGrpSpPr>
        <p:grpSpPr>
          <a:xfrm>
            <a:off x="3132000" y="4005360"/>
            <a:ext cx="4679640" cy="2519280"/>
            <a:chOff x="3132000" y="4005360"/>
            <a:chExt cx="4679640" cy="2519280"/>
          </a:xfrm>
        </p:grpSpPr>
        <p:sp>
          <p:nvSpPr>
            <p:cNvPr id="398" name="文本框 182284"/>
            <p:cNvSpPr/>
            <p:nvPr/>
          </p:nvSpPr>
          <p:spPr>
            <a:xfrm>
              <a:off x="3132000" y="4005360"/>
              <a:ext cx="1973160" cy="41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o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文本框 182285"/>
            <p:cNvSpPr/>
            <p:nvPr/>
          </p:nvSpPr>
          <p:spPr>
            <a:xfrm>
              <a:off x="5484600" y="4767120"/>
              <a:ext cx="2327040" cy="435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eftFram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文本框 182286"/>
            <p:cNvSpPr/>
            <p:nvPr/>
          </p:nvSpPr>
          <p:spPr>
            <a:xfrm>
              <a:off x="5484600" y="5435640"/>
              <a:ext cx="2301840" cy="435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pFram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文本框 182287"/>
            <p:cNvSpPr/>
            <p:nvPr/>
          </p:nvSpPr>
          <p:spPr>
            <a:xfrm>
              <a:off x="5484600" y="6089040"/>
              <a:ext cx="2327040" cy="435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ownFram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2" name="直接连接符 182288"/>
            <p:cNvSpPr/>
            <p:nvPr/>
          </p:nvSpPr>
          <p:spPr>
            <a:xfrm>
              <a:off x="4118400" y="4425120"/>
              <a:ext cx="0" cy="18972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" name="直接连接符 182289"/>
            <p:cNvSpPr/>
            <p:nvPr/>
          </p:nvSpPr>
          <p:spPr>
            <a:xfrm>
              <a:off x="4118400" y="6275520"/>
              <a:ext cx="13910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" name="直接连接符 182290"/>
            <p:cNvSpPr/>
            <p:nvPr/>
          </p:nvSpPr>
          <p:spPr>
            <a:xfrm>
              <a:off x="4118400" y="5653440"/>
              <a:ext cx="13910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5" name="直接连接符 182291"/>
            <p:cNvSpPr/>
            <p:nvPr/>
          </p:nvSpPr>
          <p:spPr>
            <a:xfrm>
              <a:off x="4118400" y="4984920"/>
              <a:ext cx="13910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6" name="文本框 182292"/>
          <p:cNvSpPr/>
          <p:nvPr/>
        </p:nvSpPr>
        <p:spPr>
          <a:xfrm>
            <a:off x="324000" y="1916280"/>
            <a:ext cx="85690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框架组的结构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文本框 182293"/>
          <p:cNvSpPr/>
          <p:nvPr/>
        </p:nvSpPr>
        <p:spPr>
          <a:xfrm>
            <a:off x="250920" y="4149720"/>
            <a:ext cx="2952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框架组的层次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0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4" dur="5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000"/>
                            </p:stCondLst>
                            <p:childTnLst>
                              <p:par>
                                <p:cTn id="66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5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670" dur="indefinite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0" dur="3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3000"/>
                            </p:stCondLst>
                            <p:childTnLst>
                              <p:par>
                                <p:cTn id="682" dur="indefinite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文本框 183297"/>
          <p:cNvSpPr/>
          <p:nvPr/>
        </p:nvSpPr>
        <p:spPr>
          <a:xfrm>
            <a:off x="250920" y="907920"/>
            <a:ext cx="864216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框架的引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p.left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p. up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p. down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或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p.frames[0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p.frames[1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p.frames[2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文本框 183298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框架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FRAME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5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文本框 108545"/>
          <p:cNvSpPr/>
          <p:nvPr/>
        </p:nvSpPr>
        <p:spPr>
          <a:xfrm>
            <a:off x="250920" y="1916280"/>
            <a:ext cx="86421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Script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代码放入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Script&g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/Script&gt;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标记符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例如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script&g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33e1d"/>
                </a:solidFill>
                <a:latin typeface="Times New Roman"/>
              </a:rPr>
              <a:t>document.write("</a:t>
            </a:r>
            <a:r>
              <a:rPr b="0" lang="zh-CN" sz="3200" spc="-1" strike="noStrike">
                <a:solidFill>
                  <a:srgbClr val="e33e1d"/>
                </a:solidFill>
                <a:latin typeface="Times New Roman"/>
                <a:ea typeface="宋体"/>
              </a:rPr>
              <a:t>欢迎您学习</a:t>
            </a:r>
            <a:r>
              <a:rPr b="0" lang="en-US" sz="3200" spc="-1" strike="noStrike">
                <a:solidFill>
                  <a:srgbClr val="e33e1d"/>
                </a:solidFill>
                <a:latin typeface="Times New Roman"/>
              </a:rPr>
              <a:t>JavaScript!"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/script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                                                     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2"/>
              </a:rPr>
              <a:t>运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文本框 108546"/>
          <p:cNvSpPr/>
          <p:nvPr/>
        </p:nvSpPr>
        <p:spPr>
          <a:xfrm>
            <a:off x="250920" y="105264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4. 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在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HTML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文档中嵌入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JavaScript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代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文本框 108547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概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文本框 184321"/>
          <p:cNvSpPr/>
          <p:nvPr/>
        </p:nvSpPr>
        <p:spPr>
          <a:xfrm>
            <a:off x="324000" y="1197000"/>
            <a:ext cx="85690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文件对象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(Document)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代表当前的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HTML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对象，是由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&lt;BODY&gt;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标记组构成的，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JavaScrip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自动为每一个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HTML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文件建立一个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documen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对象，用来显示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HTML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文件。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文本框 184322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文档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DOCUMENT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0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1" dur="5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文本框 185345"/>
          <p:cNvSpPr/>
          <p:nvPr/>
        </p:nvSpPr>
        <p:spPr>
          <a:xfrm>
            <a:off x="324000" y="981000"/>
            <a:ext cx="85690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语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方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link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文档中的一个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&lt;A HREF=&gt;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标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该属性本身也是一个对象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link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文件中的所有链接，以数组索引值表示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linkColor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文档的链接的颜色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即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&lt;BODY&gt;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标记中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alinkColor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活动链接的颜色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ALINK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vlinkColor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指向已点击过的超链接文本颜色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即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&lt;BODY&gt;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标记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LINK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特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forms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文件中的所有表单，以数组索引值表示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文本框 185346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文档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DOCUMENT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0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8" dur="5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文本框 186369"/>
          <p:cNvSpPr/>
          <p:nvPr/>
        </p:nvSpPr>
        <p:spPr>
          <a:xfrm>
            <a:off x="324000" y="981000"/>
            <a:ext cx="85690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image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文档中所有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mag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，以数组索引值表示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anchors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文档中所有锚点，以数组索引值表示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bgColor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文档的背景颜色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BGCOLOR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fgColor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文档中文本颜色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&lt;BODY&gt;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中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EX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特性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cooki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存储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okie.tx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文件内的一段信息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它是该文档对象的一个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URL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示该文件的网址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itle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文档的标题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(TITLE&gt;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lastModified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文档最后的修改日期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文本框 186370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文档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DOCUMENT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0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5" dur="5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文本框 187393"/>
          <p:cNvSpPr/>
          <p:nvPr/>
        </p:nvSpPr>
        <p:spPr>
          <a:xfrm>
            <a:off x="324000" y="981000"/>
            <a:ext cx="85690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方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write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（字符串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将字符串或数值写到文件中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getSelection()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取得当前选取的字符串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事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Click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DblClick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Down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Press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U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Over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U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5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举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例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3"/>
              </a:rPr>
              <a:t>测试文件对象的颜色属性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4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例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5"/>
              </a:rPr>
              <a:t>网页修改日期时间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6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文本框 187394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文档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DOCUMENT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0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2" dur="5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文本框 188417"/>
          <p:cNvSpPr/>
          <p:nvPr/>
        </p:nvSpPr>
        <p:spPr>
          <a:xfrm>
            <a:off x="324000" y="1125360"/>
            <a:ext cx="856908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当文档中包含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&lt;A&gt;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标记时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JavaScript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自动建立相对应的锚点对象。这些对象可以用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ocument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的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nchors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属性，搭配数组的索引方式来进行访问控制。例如：文件中的第一个锚点对象，叫做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ocument. anchors [0],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第二个锚点对象，叫做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ocument. anchors [1],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依次类推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文本框 188418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锚点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ANCHORS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0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5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文本框 189441"/>
          <p:cNvSpPr/>
          <p:nvPr/>
        </p:nvSpPr>
        <p:spPr>
          <a:xfrm>
            <a:off x="324000" y="981000"/>
            <a:ext cx="85690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语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锚点名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锚点名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方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或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anchors[]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 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anchors[]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方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ame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示锚点的名称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文本框 189442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锚点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ANCHORS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0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6" dur="5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文本框 190465"/>
          <p:cNvSpPr/>
          <p:nvPr/>
        </p:nvSpPr>
        <p:spPr>
          <a:xfrm>
            <a:off x="324000" y="1125360"/>
            <a:ext cx="856908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无论是文字、图形或图像映射，只要是用来作为超级链接用的对象，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JavaScrip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自动建立相对应的链接对象。这些对象可以用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documen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的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links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属性，搭配数组的索引方式来进行访问控制。例如：文件中的第一个链接对象，叫做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document.links[0],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第二个链接对象，叫做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document.links[1],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依次类推。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文本框 190466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链接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LINKS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0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3" dur="5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文本框 191489"/>
          <p:cNvSpPr/>
          <p:nvPr/>
        </p:nvSpPr>
        <p:spPr>
          <a:xfrm>
            <a:off x="250920" y="907920"/>
            <a:ext cx="8642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语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链接名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链接名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方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或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links[]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links[]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方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hash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示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R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字符串中锚点的名称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host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示主机域名或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地址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hostnam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示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R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当中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os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or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的部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href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完整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R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字符串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pathname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示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R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当中的目录路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path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部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文本框 191490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链接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LINKS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0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0" dur="5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文本框 192513"/>
          <p:cNvSpPr/>
          <p:nvPr/>
        </p:nvSpPr>
        <p:spPr>
          <a:xfrm>
            <a:off x="250920" y="907920"/>
            <a:ext cx="889308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port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示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R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当中的通信端口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port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部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protocol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示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R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当中的通信协议部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search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示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R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当中的查询字符串部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arget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代表目标的窗口，即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TM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中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ARGE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ext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示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标记中的文字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事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Click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DblClick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Down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Press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U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Over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U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Ou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4.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6"/>
              </a:rPr>
              <a:t>举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文本框 192514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链接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LINKS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0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7" dur="5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文本框 193537"/>
          <p:cNvSpPr/>
          <p:nvPr/>
        </p:nvSpPr>
        <p:spPr>
          <a:xfrm>
            <a:off x="468360" y="1125360"/>
            <a:ext cx="835164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当文件中包含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&lt;IMG&gt;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标记时，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JavaScrip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自动建立相对应的图像对象。这些对象可以用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documen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的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images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属性，搭配数组的索引方式来进行访问控制。例如：文件中的第一个图像对象，叫做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document. images [0],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第二个图像对象，叫做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document. images [1],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依次类推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文本框 193538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图像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IMAGES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0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4" dur="5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文本框 110593"/>
          <p:cNvSpPr/>
          <p:nvPr/>
        </p:nvSpPr>
        <p:spPr>
          <a:xfrm>
            <a:off x="250920" y="1844640"/>
            <a:ext cx="864216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将代码独立存储为以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js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为扩展名的文件，利用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RC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将该文件调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例如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script </a:t>
            </a:r>
            <a:r>
              <a:rPr b="0" lang="en-US" sz="2800" spc="-1" strike="noStrike">
                <a:solidFill>
                  <a:srgbClr val="e33e1d"/>
                </a:solidFill>
                <a:latin typeface="Tahoma"/>
              </a:rPr>
              <a:t>src="welcome.js"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/script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welcome.js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文件内容如下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3e1d"/>
                </a:solidFill>
                <a:latin typeface="Tahoma"/>
              </a:rPr>
              <a:t>document.write("</a:t>
            </a:r>
            <a:r>
              <a:rPr b="0" lang="zh-CN" sz="2800" spc="-1" strike="noStrike">
                <a:solidFill>
                  <a:srgbClr val="e33e1d"/>
                </a:solidFill>
                <a:latin typeface="Tahoma"/>
                <a:ea typeface="宋体"/>
              </a:rPr>
              <a:t>欢迎您学习</a:t>
            </a:r>
            <a:r>
              <a:rPr b="0" lang="en-US" sz="2800" spc="-1" strike="noStrike">
                <a:solidFill>
                  <a:srgbClr val="e33e1d"/>
                </a:solidFill>
                <a:latin typeface="Tahoma"/>
              </a:rPr>
              <a:t>JavaScript!"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文本框 110594"/>
          <p:cNvSpPr/>
          <p:nvPr/>
        </p:nvSpPr>
        <p:spPr>
          <a:xfrm>
            <a:off x="250920" y="105264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4. 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在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HTML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文档中嵌入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JavaScript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代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文本框 110595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概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文本框 194561"/>
          <p:cNvSpPr/>
          <p:nvPr/>
        </p:nvSpPr>
        <p:spPr>
          <a:xfrm>
            <a:off x="250920" y="907920"/>
            <a:ext cx="856908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建立图像对象：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new image([</a:t>
            </a:r>
            <a:r>
              <a:rPr b="1" i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宽度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,][</a:t>
            </a:r>
            <a:r>
              <a:rPr b="1" i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高度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]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src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图像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R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R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border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图像的边框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&lt;IMG&gt;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标记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ORDER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width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图像的宽度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IDTH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height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图像的高度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EIGH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hspace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图像水平空白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SPAC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vspace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图像垂直空白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SPAC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lowsrc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图像的第分辨率版本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WSR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complete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示浏览器是否完成了图像的加载，一个布尔值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事件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Abor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Error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Load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Down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Press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文本框 194562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图像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IMAGES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0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1" dur="5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文本框 195585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表单对象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(Form)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提供一个让客户端输入文字或进行选择的功能，例如：单选按钮、复选框、选择列表等。由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&lt;FORM&gt;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标记组构成，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JavaScrip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自动建立一个表单对象，并将用户端的信息送至服务器进行处理。表单对象是文件对象的子对象，同时，它也包含许多子对象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文本框 195586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表单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FORM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0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8" dur="5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文本框 196609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表单对象的使用格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forms[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索引值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]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forms[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索引值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]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方法（参数群）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或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单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单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方法（参数群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常用属性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Name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单名，相当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&lt;FORM&gt;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标记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Action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相当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&lt;FORM&gt;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标记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CTION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Method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输入窗体的数据传送到服务器上的方式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即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FORM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标记中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Elements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单中的所有控件，以数组索引值表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Length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单中的控件的个数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文本框 196610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表单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FORM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0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5" dur="5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文本框 197633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常用属性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Checkbox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复选框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该属性本身也是一个对象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Hidden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&lt;INPUT TYPE=”HIDDEN”&gt;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隐藏对象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Button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&lt;INPUT TYPE=”BUTTON”&gt;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按钮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该属性本身也是一个对象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Radio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单选按钮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该属性本身也是一个对象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Rese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复位按钮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该属性自身也是一个对象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Submi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提交按钮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该属性本身也是一个对象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ex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单行文本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该属性本身也是一个对象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extarea: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多行文本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该属性本身也是一个对象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Select: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&lt;SELECT&gt;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选择框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该属性本身也是一个对象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文本框 197634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表单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FORM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0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2" dur="5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文本框 198657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常用方法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Submit(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提交表单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mi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按钮的作用相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reset()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重写表单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与使用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按钮的作用相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文本框 198658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表单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FORM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9" dur="5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文本框 199681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表单对象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(Form)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提供一个让客户端输入文字或进行选择的功能，例如：单选按钮、复选框、选择列表等。由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&lt;FORM&gt;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标记组构成，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JavaScrip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自动建立一个表单对象，并将用户端的信息送至服务器进行处理。表单对象是文件对象的子对象，同时，它也包含许多子对象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文本框 199682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表单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FORM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0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6" dur="5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文本框 200705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表单对象的使用格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forms[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索引值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]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forms[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索引值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]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方法（参数群）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或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单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单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方法（参数群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常用属性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Name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单名，相当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&lt;FORM&gt;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标记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Action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相当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&lt;FORM&gt;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标记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CTION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Method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输入窗体的数据传送到服务器上的方式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即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FORM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标记中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Elements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单中的所有控件，以数组索引值表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Length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单中的控件的个数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文本框 200706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表单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FORM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0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5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文本框 201729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常用属性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Checkbox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复选框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该属性本身也是一个对象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Hidden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&lt;INPUT TYPE=”HIDDEN”&gt;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隐藏对象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Button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&lt;INPUT TYPE=”BUTTON”&gt;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按钮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该属性本身也是一个对象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Radio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单选按钮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该属性本身也是一个对象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Rese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复位按钮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该属性自身也是一个对象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Submi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提交按钮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该属性本身也是一个对象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ex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单行文本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该属性本身也是一个对象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extarea: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多行文本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该属性本身也是一个对象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Select: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&lt;SELECT&gt;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选择框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该属性本身也是一个对象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文本框 201730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表单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FORM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0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0" dur="5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文本框 202753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常用方法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Submit(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提交表单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mi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按钮的作用相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reset()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重写表单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与使用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按钮的作用相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文本框 202754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表单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FORM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0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7" dur="5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文本框 203777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当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JavaScrip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读到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&lt;INPUT&gt;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标记中的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ype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属性值为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ex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时，自动建立一个文本按钮对象，并将该对象放到表单对象的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elements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数组当中，让程序员可以通过一定的方法来控制这一对象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使用文本对象的格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cument.forms[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索引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.elements[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索引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.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属性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cument.forms[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索引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.elements[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索引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.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方法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参数群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i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或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单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文本对象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单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文本对象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方法（参数群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文本框 203778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单行文本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0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4" dur="5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文本框 111617"/>
          <p:cNvSpPr/>
          <p:nvPr/>
        </p:nvSpPr>
        <p:spPr>
          <a:xfrm>
            <a:off x="250920" y="1916280"/>
            <a:ext cx="86421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为避免某些浏览器不完全支持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Script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，而造成错误，可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Script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代码用注释语句括起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例如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&lt;Script 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&lt;!-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--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&lt;/Script&gt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文本框 111618"/>
          <p:cNvSpPr/>
          <p:nvPr/>
        </p:nvSpPr>
        <p:spPr>
          <a:xfrm>
            <a:off x="250920" y="105264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4. 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在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HTML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文档中嵌入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JavaScript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代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文本框 111619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概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文本框 204801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常用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defaultValu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tex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对象的缺省值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VALU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初值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name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tex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对象的名字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NAM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value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tex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的当前值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VALU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值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form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tex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所在的表单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常用方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blur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（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把焦点从文本框移开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focus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（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把焦点移到文本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selec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（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将该对象设置成选取状态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文本框 204802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单行文本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0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1" dur="5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文本框 205825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事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Blur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Chang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Focus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Selec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Click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DblClick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Down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Press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U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Over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U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Ou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Down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Mo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5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举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&lt;TITLE&gt;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宋体"/>
              </a:rPr>
              <a:t>单行文本范例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&lt;/TITLE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&lt;FORM name=form1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宋体"/>
              </a:rPr>
              <a:t>姓名：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&lt;INPUT TYPE="text" NAME="name1"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&lt;INPUT TYPE="button" VALUE="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宋体"/>
              </a:rPr>
              <a:t>请单击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onClick=alert(form1.name1.value + "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  <a:ea typeface="宋体"/>
              </a:rPr>
              <a:t>，谢谢你！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")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 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&lt;/FORM&g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                                                          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1"/>
              </a:rPr>
              <a:t>运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文本框 205826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单行文本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8" dur="5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文本框 206849"/>
          <p:cNvSpPr/>
          <p:nvPr/>
        </p:nvSpPr>
        <p:spPr>
          <a:xfrm>
            <a:off x="684360" y="1052640"/>
            <a:ext cx="795816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当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JavaScrip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读到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&lt;INPUT&gt;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标记中的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ype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属性值为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password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时，自动建立一个密码对象，并将该对象放到表单对象的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elements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数组当中，让程序员可以通过一定的方法来控制这一对象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其引用方法与单行文本相同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文本框 206850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密码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0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5" dur="5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文本框 207873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当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JavaScrip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读到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&lt;INPUT&gt;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标记中的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ype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属性值为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button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时，自动建立一个按钮对象，并将该对象放到表单对象的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elements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数组当中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使用按钮对象的格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cument.forms[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索引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.elements[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索引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.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属性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cument.forms[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索引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.elements[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索引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.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方法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参数群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或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单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按钮对象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单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按钮对象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方法（参数群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文本框 207874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按钮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0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2" dur="5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文本框 208897"/>
          <p:cNvSpPr/>
          <p:nvPr/>
        </p:nvSpPr>
        <p:spPr>
          <a:xfrm>
            <a:off x="539640" y="907920"/>
            <a:ext cx="835344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常用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nam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按钮对象的名字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NAM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value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按钮上显示的值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form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按钮所在的表单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常用方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blur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（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把焦点从该对象上移开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focus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（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把焦点移到该对象上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click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（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再该对象上单击鼠标左键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事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Blur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Focus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Click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DblClick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Down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Press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U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Over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U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Ou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Down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Mo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文本框 208898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按钮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9" dur="5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文本框 209921"/>
          <p:cNvSpPr/>
          <p:nvPr/>
        </p:nvSpPr>
        <p:spPr>
          <a:xfrm>
            <a:off x="250920" y="1052640"/>
            <a:ext cx="864216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当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JavaScript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读到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&lt;INPUT&gt;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标记中的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type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属性值为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submit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时，自动建立一个提交按钮对象，并将该对象放到表单对象的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elements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数组当中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其用法语按钮对象相同。</a:t>
            </a:r>
            <a:r>
              <a:rPr b="0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文本框 209922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提交按钮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0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6" dur="5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文本框 210945"/>
          <p:cNvSpPr/>
          <p:nvPr/>
        </p:nvSpPr>
        <p:spPr>
          <a:xfrm>
            <a:off x="250920" y="1052640"/>
            <a:ext cx="864216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当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JavaScript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读到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&lt;INPUT&gt;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标记中的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type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属性值为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reset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时，自动建立一个重置按钮对象，并将该对象放到表单对象的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elements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数组当中。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其用法语按钮对象相同。</a:t>
            </a:r>
            <a:r>
              <a:rPr b="0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文本框 210946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重置按钮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0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3" dur="5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文本框 212993"/>
          <p:cNvSpPr/>
          <p:nvPr/>
        </p:nvSpPr>
        <p:spPr>
          <a:xfrm>
            <a:off x="250920" y="1052640"/>
            <a:ext cx="864216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当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JavaScrip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读到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&lt;TEXTAREA&gt;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标记时，自动建立一个文本区域对象，并将该对象放到表单对象的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elements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数组当中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使用文本对象的格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cument.forms[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索引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.elements[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索引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.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属性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cument.forms[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索引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.elements[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索引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.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方法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参数群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或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单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文本区域对象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单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文本区域对象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方法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参数群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文本框 212994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多行文本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0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0" dur="5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文本框 214017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defaultValu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该对象的缺省值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VALU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初值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nam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该对象的名字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NAM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valu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该对象的当前值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VALU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值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form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该对象所在的表单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方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blur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（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把焦点从文本框移开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focus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（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把焦点移到文本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selec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（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将该对象设置成选取状态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事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nBlur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nChang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nFocus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nSelect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nClick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nDblClick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nKeyDown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nKeyPress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nKeyU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nMouseOver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nMouseU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nMouseOut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nMouseDown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nMouseMov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文本框 214018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多行文本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0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7" dur="5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文本框 215041"/>
          <p:cNvSpPr/>
          <p:nvPr/>
        </p:nvSpPr>
        <p:spPr>
          <a:xfrm>
            <a:off x="1187280" y="907920"/>
            <a:ext cx="770580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Tahoma"/>
                <a:ea typeface="宋体"/>
              </a:rPr>
              <a:t>例：多行文本对象示例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&lt;Script&gt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ocument.title = "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宋体"/>
              </a:rPr>
              <a:t>多行文本对象示例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"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unction isTooLong(elm)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f (elm.length &gt; 50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lert("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宋体"/>
              </a:rPr>
              <a:t>留言内容太长，请修改后再发送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...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eswin=open("","","300,300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eswin.document.write(elm)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&lt;/script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&lt;FORM onSubmit="return isTooLong(this.msg.value)"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&lt;TEXTAREA NAME="msg" COLS="30" ROWS="5"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nFocus="this.value=''"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宋体"/>
              </a:rPr>
              <a:t>欢迎留言，不过请长话短说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....&lt;/textarea&gt;&lt;BR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&lt;INPUT TYPE="submit" VALUE="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宋体"/>
              </a:rPr>
              <a:t>留言完毕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"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&lt;/FORM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</a:t>
            </a:r>
            <a:r>
              <a:rPr b="0" lang="zh-CN" sz="16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1"/>
              </a:rPr>
              <a:t>运行结果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文本框 215042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多行文本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0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4" dur="5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13:33:05Z</dcterms:created>
  <dc:creator>zyl</dc:creator>
  <dc:description/>
  <dc:language>en-US</dc:language>
  <cp:lastModifiedBy>コミとと</cp:lastModifiedBy>
  <dcterms:modified xsi:type="dcterms:W3CDTF">2019-10-07T10:55:52Z</dcterms:modified>
  <cp:revision>4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098</vt:lpwstr>
  </property>
  <property fmtid="{D5CDD505-2E9C-101B-9397-08002B2CF9AE}" pid="3" name="Version">
    <vt:r8>5</vt:r8>
  </property>
</Properties>
</file>