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94A-2AFD-4584-BD8F-3D9FA8FF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3E0-CEDB-4ECD-8B8F-13B766F9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CFF-4544-4C06-A945-8CA3B5DE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A93-626E-4941-97ED-BD52BA76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FF9-1856-4657-A69C-05AD6C3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87C-91B5-4365-8F9C-24C3695A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50B-239D-47E8-94B8-892031B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393-92AF-49D9-8DC4-E796000F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DD9-49F7-48BB-882F-B92379D3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090-0A39-4A76-B7E3-589027EF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398-B08D-4261-855F-C3DA95EC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63C-99E7-4167-A65E-CDA5748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0897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矩形 80898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矩形 80899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矩形 80900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矩形 80901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矩形 80902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矩形 80903"/>
          <p:cNvSpPr/>
          <p:nvPr/>
        </p:nvSpPr>
        <p:spPr>
          <a:xfrm>
            <a:off x="268200" y="7826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7F27-B151-4CA9-B145-5176F919A4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81921"/>
          <p:cNvGrpSpPr/>
          <p:nvPr/>
        </p:nvGrpSpPr>
        <p:grpSpPr>
          <a:xfrm>
            <a:off x="0" y="0"/>
            <a:ext cx="9009000" cy="1052640"/>
            <a:chOff x="0" y="0"/>
            <a:chExt cx="9009000" cy="1052640"/>
          </a:xfrm>
        </p:grpSpPr>
        <p:grpSp>
          <p:nvGrpSpPr>
            <p:cNvPr id="47" name="组合 81922"/>
            <p:cNvGrpSpPr/>
            <p:nvPr/>
          </p:nvGrpSpPr>
          <p:grpSpPr>
            <a:xfrm>
              <a:off x="290520" y="108000"/>
              <a:ext cx="711360" cy="474840"/>
              <a:chOff x="290520" y="108000"/>
              <a:chExt cx="711360" cy="474840"/>
            </a:xfrm>
          </p:grpSpPr>
          <p:sp>
            <p:nvSpPr>
              <p:cNvPr id="48" name="矩形 81923"/>
              <p:cNvSpPr/>
              <p:nvPr/>
            </p:nvSpPr>
            <p:spPr>
              <a:xfrm>
                <a:off x="290520" y="1080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矩形 81924"/>
              <p:cNvSpPr/>
              <p:nvPr/>
            </p:nvSpPr>
            <p:spPr>
              <a:xfrm>
                <a:off x="673560" y="108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组合 81925"/>
            <p:cNvGrpSpPr/>
            <p:nvPr/>
          </p:nvGrpSpPr>
          <p:grpSpPr>
            <a:xfrm>
              <a:off x="414360" y="530280"/>
              <a:ext cx="737640" cy="474840"/>
              <a:chOff x="414360" y="530280"/>
              <a:chExt cx="737640" cy="474840"/>
            </a:xfrm>
          </p:grpSpPr>
          <p:sp>
            <p:nvSpPr>
              <p:cNvPr id="51" name="矩形 81926"/>
              <p:cNvSpPr/>
              <p:nvPr/>
            </p:nvSpPr>
            <p:spPr>
              <a:xfrm>
                <a:off x="414360" y="5302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矩形 81927"/>
              <p:cNvSpPr/>
              <p:nvPr/>
            </p:nvSpPr>
            <p:spPr>
              <a:xfrm>
                <a:off x="783000" y="530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矩形 81928"/>
            <p:cNvSpPr/>
            <p:nvPr/>
          </p:nvSpPr>
          <p:spPr>
            <a:xfrm>
              <a:off x="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矩形 81929"/>
            <p:cNvSpPr/>
            <p:nvPr/>
          </p:nvSpPr>
          <p:spPr>
            <a:xfrm>
              <a:off x="63504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矩形 81930"/>
            <p:cNvSpPr/>
            <p:nvPr/>
          </p:nvSpPr>
          <p:spPr>
            <a:xfrm flipV="1">
              <a:off x="316080" y="822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Examples/form7.htm" TargetMode="External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11_&#25968;&#25454;&#31867;&#22411;&#33258;&#21160;&#36716;&#25442;.htm" TargetMode="External"/><Relationship Id="rId3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Examples/form8.htm" TargetMode="External"/><Relationship Id="rId8" Type="http://schemas.openxmlformats.org/officeDocument/2006/relationships/hyperlink" Target="Examples/form8.htm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12_&#25968;&#25454;&#31867;&#22411;&#36716;&#25442;&#20989;&#25968;.htm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Examples/13_&#27604;&#36739;&#36816;&#31639;&#31526;.htm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Examples/14_&#31639;&#26415;&#36816;&#31639;&#31526;.ht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Examples/15_&#26465;&#20214;&#36816;&#31639;&#31526;.htm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Examples/16_delete&#36816;&#31639;&#31526;.htm" TargetMode="External"/><Relationship Id="rId2" Type="http://schemas.openxmlformats.org/officeDocument/2006/relationships/hyperlink" Target="Examples/17_typeof&#36816;&#31639;&#31526;.htm" TargetMode="External"/><Relationship Id="rId3" Type="http://schemas.openxmlformats.org/officeDocument/2006/relationships/hyperlink" Target="Examples/18_this&#36816;&#31639;&#31526;.htm" TargetMode="External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Examples/19_if&#35821;&#21477;.htm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Examples\for_in.htm" TargetMode="External"/><Relationship Id="rId2" Type="http://schemas.openxmlformats.org/officeDocument/2006/relationships/hyperlink" Target="Examples\110_FOR IN&#35821;&#21477;.HTM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\&#21028;&#26029;&#32032;&#25968;.htm" TargetMode="External"/><Relationship Id="rId5" Type="http://schemas.openxmlformats.org/officeDocument/2006/relationships/hyperlink" Target="Examples\&#21028;&#26029;&#28070;&#24180;.htm" TargetMode="Externa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20107;&#20214;&#22788;&#29702;1.htm" TargetMode="External"/><Relationship Id="rId3" Type="http://schemas.openxmlformats.org/officeDocument/2006/relationships/image" Target="../media/image1.png"/><Relationship Id="rId4" Type="http://schemas.openxmlformats.org/officeDocument/2006/relationships/hyperlink" Target="Examples/&#20107;&#20214;&#22788;&#29702;2.ht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3.htm" TargetMode="External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4.htm" TargetMode="External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Examples/25_&#29992;&#25143;&#33258;&#23450;&#20041;&#23545;&#35937;.htm" TargetMode="External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Examples/26_&#20316;&#19994;1.htm" TargetMode="External"/><Relationship Id="rId2" Type="http://schemas.openxmlformats.org/officeDocument/2006/relationships/hyperlink" Target="Examples/26_&#20316;&#19994;2.htm" TargetMode="External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1.HTM" TargetMode="External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325,68,&#24187;&#28783;&#29255; 68" TargetMode="External"/><Relationship Id="rId5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2.htm" TargetMode="External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DOCUMENT1.HTM" TargetMode="External"/><Relationship Id="rId4" Type="http://schemas.openxmlformats.org/officeDocument/2006/relationships/hyperlink" Target="Examples/DOCUMENT1.HTM" TargetMode="External"/><Relationship Id="rId5" Type="http://schemas.openxmlformats.org/officeDocument/2006/relationships/hyperlink" Target="Examples/DOCUMENT2.HTM" TargetMode="External"/><Relationship Id="rId6" Type="http://schemas.openxmlformats.org/officeDocument/2006/relationships/hyperlink" Target="Examples/DOCUMENT2.HTM" TargetMode="External"/><Relationship Id="rId7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Examples/LINKS.HTM" TargetMode="External"/><Relationship Id="rId6" Type="http://schemas.openxmlformats.org/officeDocument/2006/relationships/hyperlink" Target="Examples/LINKS.HTM" TargetMode="External"/><Relationship Id="rId7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Examples/form1.HTM" TargetMode="External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Examples/form5.ht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3429"/>
          <p:cNvSpPr/>
          <p:nvPr/>
        </p:nvSpPr>
        <p:spPr>
          <a:xfrm>
            <a:off x="104292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动态网页脚本语言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文本框 103430"/>
          <p:cNvSpPr/>
          <p:nvPr/>
        </p:nvSpPr>
        <p:spPr>
          <a:xfrm>
            <a:off x="826920" y="1268280"/>
            <a:ext cx="749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编程基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事件驱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内置对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浏览器对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13665"/>
          <p:cNvSpPr/>
          <p:nvPr/>
        </p:nvSpPr>
        <p:spPr>
          <a:xfrm>
            <a:off x="324000" y="1628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mber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包含整数或浮点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逻辑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Logica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取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单引号或双引号括起来的零个或多个单一的字符所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空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l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没有值，取唯一值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大小写敏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未定义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undefined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尚未定义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注：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不能写成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或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既不等于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，也不等于“空字符串”。因为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是数值，“空字符串”是字符串。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文本框 11366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文本框 11366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21606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单选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文本框 2160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21708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设置该对象的选取状态，为一个布尔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在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文本框 21709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21811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文本框 2181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22016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复选框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复选框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文本框 2201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22118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设置该对象的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文本框 2211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22220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文本框 2222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文本框 22323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颜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 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checkCount=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num = document.form1.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(var i=0; i&lt;num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f (document.form1.elements[i].check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ck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ert (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你喜欢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+ checkCount + 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种颜色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FORM NAME=form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请选择你喜欢的颜色：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red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红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green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绿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blue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蓝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button" VALUE=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请单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 onClick=count()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结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文本框 2232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22425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自动建立一个选择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选择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文本框 2242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22528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列表中选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Option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数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options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法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OPTION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Inde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所选择项目的索引值（选到第一项，返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文本框 22528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22630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文本框 22630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择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16737"/>
          <p:cNvSpPr/>
          <p:nvPr/>
        </p:nvSpPr>
        <p:spPr>
          <a:xfrm>
            <a:off x="324000" y="1700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数据类型转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表达式中用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运算符，且其中一个操作数为字符串，另一个操作数为数值时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将数值转成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我今年”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18;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“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我今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8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x=”15”+8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=15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y=15+8;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y=2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表达式中用了其它运算符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将字符串转成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30”/5;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y=”15”-“8”;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文本框 116738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文本框 11673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22732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建立选项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Option(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 , defaultSelected [ , selected ] ] ] ]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中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“文字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代表显示在列表中的文字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值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也就是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指定默认选中该选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指定选中该选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文本框 2273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2835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aultSelected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指定该选项为默认选择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所有选项所构成的数组索引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   Select.option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的元素个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项的数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ed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判断该选项是否被选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选项所显示的文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3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8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文本框 2283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1571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据类型转换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val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参数内容，转换成相应的数值，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eval(“15”)+8;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，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底数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，转换成指定底数的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传入的字符串，转换成浮点数值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文本框 11571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文本框 11571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1776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文本框 117762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文本框 11776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文本框 117764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命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字母或下划线开头（不能以数字开头），后面接数字或其它字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名区分大小写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Uppercase  A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Lowercase  a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1878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文本框 11878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文本框 11878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文本框 118788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8920" indent="35712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的声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声明时，不必定义类型，所有类型均由小写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;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,sex;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张永”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女生”；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二变量均为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1980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文本框 119810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文本框 11981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文本框 119812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变量的作用域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全局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Glob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和局部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变量的作用域实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gv = "JavaScript";       //g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是全局变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tes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函数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tes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v = "VBScript";      //l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是局部变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+ "&lt;br&gt;");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documen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2083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文本框 12083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常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文本框 12083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文本框 120836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字符串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一般字符串常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特殊字符的字符串常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布尔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整数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s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浮点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ing-Point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数组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2924280"/>
          <a:ext cx="6985080" cy="1981080"/>
        </p:xfrm>
        <a:graphic>
          <a:graphicData uri="http://schemas.openxmlformats.org/drawingml/2006/table">
            <a:tbl>
              <a:tblPr/>
              <a:tblGrid>
                <a:gridCol w="857160"/>
                <a:gridCol w="2976480"/>
                <a:gridCol w="89388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后退一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ackspa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制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a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换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m fe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换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ew 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双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arriage retu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斜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acksla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2185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文本框 12185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文本框 12185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文本框 121860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赋值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276640"/>
          <a:ext cx="8496000" cy="2073240"/>
        </p:xfrm>
        <a:graphic>
          <a:graphicData uri="http://schemas.openxmlformats.org/drawingml/2006/table">
            <a:tbl>
              <a:tblPr/>
              <a:tblGrid>
                <a:gridCol w="2128320"/>
                <a:gridCol w="1724040"/>
                <a:gridCol w="2049480"/>
                <a:gridCol w="259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/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+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余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-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2288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文本框 12288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文本框 12288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文本框 122884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比较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2205000"/>
          <a:ext cx="8424720" cy="2773440"/>
        </p:xfrm>
        <a:graphic>
          <a:graphicData uri="http://schemas.openxmlformats.org/drawingml/2006/table">
            <a:tbl>
              <a:tblPr/>
              <a:tblGrid>
                <a:gridCol w="1244520"/>
                <a:gridCol w="4197600"/>
                <a:gridCol w="2982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=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两个操作数相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sw =pass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!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两个操作数不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obile.length!=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g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大于或者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ries&gt;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g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大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flag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l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于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&lt;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l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巧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ries&l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2390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文本框 12390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文本框 12390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文本框 123908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算术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2205000"/>
          <a:ext cx="8496000" cy="2498760"/>
        </p:xfrm>
        <a:graphic>
          <a:graphicData uri="http://schemas.openxmlformats.org/drawingml/2006/table">
            <a:tbl>
              <a:tblPr/>
              <a:tblGrid>
                <a:gridCol w="1007640"/>
                <a:gridCol w="1636920"/>
                <a:gridCol w="955440"/>
                <a:gridCol w="1498680"/>
                <a:gridCol w="1093680"/>
                <a:gridCol w="23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ddi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ivi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递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e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ubtra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dul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取负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ultiplic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递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37217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由网景公司开发的一种跨平台，面向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-oriente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网页脚本语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eb Script Languag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是目前流行的网页特效设计语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，随网页一起传送到客户端浏览器，然后通过浏览器来解释执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文本框 1372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2492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文本框 12493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文本框 12493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文本框 124932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逻辑运算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&amp;&amp;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与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AND)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都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||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或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OR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任一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!a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非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NOT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2595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文本框 125954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文本框 12595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文本框 125956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运算符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tring operator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条件运算符（？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条件表达式？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值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值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果条件表达式的结果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否则就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义对象实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法：对象名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类型（参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Array=new Array(3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2697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12697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文本框 12697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文本框 126980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elet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删除对象、属性、数组、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     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注：删除成功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，删除失败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lase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ypeof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判断操作数的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操作数      或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操作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i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当前对象，因此用在不同的地方，就有不同的结果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2800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文本框 12800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文本框 12800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文本框 128004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矩形 128005"/>
          <p:cNvSpPr/>
          <p:nvPr/>
        </p:nvSpPr>
        <p:spPr>
          <a:xfrm>
            <a:off x="1514520" y="2205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矩形 128006"/>
          <p:cNvSpPr/>
          <p:nvPr/>
        </p:nvSpPr>
        <p:spPr>
          <a:xfrm>
            <a:off x="1514520" y="4437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矩形 128007"/>
          <p:cNvSpPr/>
          <p:nvPr/>
        </p:nvSpPr>
        <p:spPr>
          <a:xfrm>
            <a:off x="5029200" y="2205360"/>
            <a:ext cx="288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 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直接连接符 128008"/>
          <p:cNvSpPr/>
          <p:nvPr/>
        </p:nvSpPr>
        <p:spPr>
          <a:xfrm>
            <a:off x="395280" y="2133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直接连接符 128009"/>
          <p:cNvSpPr/>
          <p:nvPr/>
        </p:nvSpPr>
        <p:spPr>
          <a:xfrm>
            <a:off x="4356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直接连接符 128010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直接连接符 128012"/>
          <p:cNvSpPr/>
          <p:nvPr/>
        </p:nvSpPr>
        <p:spPr>
          <a:xfrm>
            <a:off x="395280" y="4221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文本框 128013"/>
          <p:cNvSpPr/>
          <p:nvPr/>
        </p:nvSpPr>
        <p:spPr>
          <a:xfrm>
            <a:off x="6588000" y="580536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13004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文本框 13005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文本框 13005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文本框 130052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矩形 130061"/>
          <p:cNvSpPr/>
          <p:nvPr/>
        </p:nvSpPr>
        <p:spPr>
          <a:xfrm>
            <a:off x="1271520" y="2489760"/>
            <a:ext cx="527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构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(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2902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文本框 12902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文本框 12902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文本框 129028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矩形 129029"/>
          <p:cNvSpPr/>
          <p:nvPr/>
        </p:nvSpPr>
        <p:spPr>
          <a:xfrm>
            <a:off x="656280" y="2133360"/>
            <a:ext cx="30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矩形 129030"/>
          <p:cNvSpPr/>
          <p:nvPr/>
        </p:nvSpPr>
        <p:spPr>
          <a:xfrm>
            <a:off x="579960" y="3285000"/>
            <a:ext cx="606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hile ( i &gt; 0 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131073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文本框 131074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文本框 13107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文本框 131076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矩形 131079"/>
          <p:cNvSpPr/>
          <p:nvPr/>
        </p:nvSpPr>
        <p:spPr>
          <a:xfrm>
            <a:off x="324000" y="21348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 while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 i &gt; 0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32097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文本框 132098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文本框 13209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文本框 132100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文本框 132102"/>
          <p:cNvSpPr/>
          <p:nvPr/>
        </p:nvSpPr>
        <p:spPr>
          <a:xfrm>
            <a:off x="468360" y="2133720"/>
            <a:ext cx="6335640" cy="8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( 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矩形 132103"/>
          <p:cNvSpPr/>
          <p:nvPr/>
        </p:nvSpPr>
        <p:spPr>
          <a:xfrm>
            <a:off x="444600" y="3285000"/>
            <a:ext cx="616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or ( var i = 5; i &gt; 0; i--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33121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文本框 133122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文本框 13312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文本框 133124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文本框 133127"/>
          <p:cNvSpPr/>
          <p:nvPr/>
        </p:nvSpPr>
        <p:spPr>
          <a:xfrm>
            <a:off x="539640" y="2205000"/>
            <a:ext cx="5688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例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34145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文本框 134146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文本框 13414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文本框 134148"/>
          <p:cNvSpPr/>
          <p:nvPr/>
        </p:nvSpPr>
        <p:spPr>
          <a:xfrm>
            <a:off x="250920" y="148428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矩形 134150"/>
          <p:cNvSpPr/>
          <p:nvPr/>
        </p:nvSpPr>
        <p:spPr>
          <a:xfrm>
            <a:off x="395280" y="20602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(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 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矩形 134151"/>
          <p:cNvSpPr/>
          <p:nvPr/>
        </p:nvSpPr>
        <p:spPr>
          <a:xfrm>
            <a:off x="612720" y="3357720"/>
            <a:ext cx="764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  <a:tab algn="l" pos="6400800"/>
                <a:tab algn="l" pos="6629400"/>
                <a:tab algn="l" pos="685800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矩形 134152"/>
          <p:cNvSpPr/>
          <p:nvPr/>
        </p:nvSpPr>
        <p:spPr>
          <a:xfrm>
            <a:off x="468360" y="306864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ith (documen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39265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什么是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脚本语言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脚本语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cripting Language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由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ASCII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码构成，可直接用任何的文本编辑器开发完成。是一种不必事先编译，只要利用适当的解释器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Interpreter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就可以执行的简单的解释式程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2) 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是由网景公司开发的一种跨平台，纯面向对象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object-oriented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式的网页式脚本语言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Web Script Language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。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HTML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文件中，随网页一起传送到客户端浏览器，然后通过浏览器的解释器来解释执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文本框 1392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13516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文本框 135170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文本框 13517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文本框 135172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注释语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文本框 135175"/>
          <p:cNvSpPr/>
          <p:nvPr/>
        </p:nvSpPr>
        <p:spPr>
          <a:xfrm>
            <a:off x="395280" y="2276640"/>
            <a:ext cx="623880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140289"/>
          <p:cNvSpPr/>
          <p:nvPr/>
        </p:nvSpPr>
        <p:spPr>
          <a:xfrm>
            <a:off x="533520" y="1828800"/>
            <a:ext cx="683568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包含两类函数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系统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文本框 140290"/>
          <p:cNvSpPr/>
          <p:nvPr/>
        </p:nvSpPr>
        <p:spPr>
          <a:xfrm>
            <a:off x="380880" y="99072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. JavaScrip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文本框 14029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141313"/>
          <p:cNvSpPr/>
          <p:nvPr/>
        </p:nvSpPr>
        <p:spPr>
          <a:xfrm>
            <a:off x="250920" y="112536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编码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中非文字、数字字符（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,%,#,^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空格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转成相对应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译码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反，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转回一般数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求值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常有两个用途，一个用作字符串的运算，另一个用来指出操作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 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文本框 1413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42337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4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值判断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判断变量的值是否为数值，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N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Number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若返回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则表示自变量不是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aN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测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x = 15, y = "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黄雅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x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x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y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y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执行结果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x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y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文本框 1423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43361"/>
          <p:cNvSpPr/>
          <p:nvPr/>
        </p:nvSpPr>
        <p:spPr>
          <a:xfrm>
            <a:off x="250920" y="105264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5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转成整数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各种进制的数值转成十进制整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底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二进位转成十进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1101&lt;sub&gt;2&lt;/sub&gt; = 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1101", 2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十六进位转成十进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BFFF&lt;sub&gt;16&lt;/sub&gt; = 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BFFF", 16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文本框 1433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44385"/>
          <p:cNvSpPr/>
          <p:nvPr/>
        </p:nvSpPr>
        <p:spPr>
          <a:xfrm>
            <a:off x="250920" y="1052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6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转成浮点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转成浮点数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Int("3.123456"), 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Float("3.123456"), "&lt;br&gt;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文本框 1443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45409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文本框 145410"/>
          <p:cNvSpPr/>
          <p:nvPr/>
        </p:nvSpPr>
        <p:spPr>
          <a:xfrm>
            <a:off x="250920" y="90792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7)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文本框 145411"/>
          <p:cNvSpPr/>
          <p:nvPr/>
        </p:nvSpPr>
        <p:spPr>
          <a:xfrm>
            <a:off x="609480" y="1752480"/>
            <a:ext cx="734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内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return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矩形 145412"/>
          <p:cNvSpPr/>
          <p:nvPr/>
        </p:nvSpPr>
        <p:spPr>
          <a:xfrm>
            <a:off x="609480" y="4086720"/>
            <a:ext cx="7707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定义函数的注意事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易于识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模块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放置在程序开始部分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例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文本框 14541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14745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矩形 147458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鼠标或键盘的动作称为事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驱动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Driv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由事件引发的一连串程序的动作，称为事件驱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处理程序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Handl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事件进行处理的程序或函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事件处理程序语法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4848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矩形 148482"/>
          <p:cNvSpPr/>
          <p:nvPr/>
        </p:nvSpPr>
        <p:spPr>
          <a:xfrm>
            <a:off x="395280" y="105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常见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1557360"/>
          <a:ext cx="8569080" cy="4754520"/>
        </p:xfrm>
        <a:graphic>
          <a:graphicData uri="http://schemas.openxmlformats.org/drawingml/2006/table">
            <a:tbl>
              <a:tblPr/>
              <a:tblGrid>
                <a:gridCol w="1180800"/>
                <a:gridCol w="2995560"/>
                <a:gridCol w="1438200"/>
                <a:gridCol w="295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止正在加载的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关闭当前网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去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获取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移动鼠标指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改变对象的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鼠标指针离开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对象上单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鼠标指针悬停于某对象之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l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对象上双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放开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ogD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拖拽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窗口被移动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载文件或图形时发生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窗口大小被改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键盘上的任意键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P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下键盘上的任意键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某键被按下后弹起来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浏览器读入文件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4950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矩形 14950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事件处理程序语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事件处理程序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 = “alert(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这是事件处理程序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”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您好！欢迎您学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直接写在对象后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onLoad = 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这是事件处理程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浏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4449"/>
          <p:cNvSpPr/>
          <p:nvPr/>
        </p:nvSpPr>
        <p:spPr>
          <a:xfrm>
            <a:off x="755640" y="1916280"/>
            <a:ext cx="73454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脚本编写语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基于对象的语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简单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安全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动态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跨平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文本框 104450"/>
          <p:cNvSpPr/>
          <p:nvPr/>
        </p:nvSpPr>
        <p:spPr>
          <a:xfrm>
            <a:off x="826920" y="1052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JavaScript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的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文本框 10445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5052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矩形 150530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应用举例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NT STYLE="cursor:han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location='http://www.hubert.idv.tw/'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ver="status=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最棒的在线学习网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red';return tru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ut="status=''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blue'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网络技术学习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FO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15155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矩形 151554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、应用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RM name=ff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请输入基本资料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姓名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text" NAME="usr" SIZE="8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button" VALUE="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请单击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alert(fff.usr.value+' 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谢谢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浏览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52577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了一些非常有用的常用内部对象和方法。用户不需要用脚本来实现这些功能。这正是基于对象编程的真正目的。本节主要介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数组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字符串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数值计算）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日期）内置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文本框 15257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5360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矩形 153602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 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[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2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个元素的数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苹果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橘子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个  数组元素的数组，并赋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数组元素的索引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数组长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数组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将数组内的所有值组合成一个字符串，并用特定符号分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String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以字符串来表示数组和数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将数组内元素的索引次序翻转过来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5462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矩形 154626"/>
          <p:cNvSpPr/>
          <p:nvPr/>
        </p:nvSpPr>
        <p:spPr>
          <a:xfrm>
            <a:off x="971640" y="1052640"/>
            <a:ext cx="78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15564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矩形 155650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变量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常数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str1=”JavaScript”  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义字符串变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字符串长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包括字符串显示和运算两类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15667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矩形 156674"/>
          <p:cNvSpPr/>
          <p:nvPr/>
        </p:nvSpPr>
        <p:spPr>
          <a:xfrm>
            <a:off x="395280" y="98100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对象的常用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24000" y="1413000"/>
          <a:ext cx="8569080" cy="461952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书签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A name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 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.anch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超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，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.link(UR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c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in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tsize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tco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创建字符显示格式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BIG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B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LowerCas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pper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符串大小写转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Of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指定子字符串在字符串中第一次出现的左、右索引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ring(start,e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开始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子字符（不包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置的字符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返回某字符串中指定的子字符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文本框 156700"/>
          <p:cNvSpPr/>
          <p:nvPr/>
        </p:nvSpPr>
        <p:spPr>
          <a:xfrm>
            <a:off x="7451640" y="6093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15769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矩形 157698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欧拉常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自然对数的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71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69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10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3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2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4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10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43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415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1_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70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1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58721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矩形 158722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绝对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o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余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正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a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的反正切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大于或等于指定数的最小整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oor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两数间的较大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两数问的较小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w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次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为指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之间的一个伪随机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nd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某数四舍五入之后的整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5974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5974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Date ( 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期参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)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当日时间为对象初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October 1,2002 12:00:00”)  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英文表示月份，其余以数值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年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200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一律以数字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6497"/>
          <p:cNvSpPr/>
          <p:nvPr/>
        </p:nvSpPr>
        <p:spPr>
          <a:xfrm>
            <a:off x="1042920" y="1916280"/>
            <a:ext cx="785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制作网页特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表单前端验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窗口动态操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高系统工作效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文本框 106498"/>
          <p:cNvSpPr/>
          <p:nvPr/>
        </p:nvSpPr>
        <p:spPr>
          <a:xfrm>
            <a:off x="971640" y="105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. 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的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文本框 10649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6076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矩形 160770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Year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年份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月份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并返回日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y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星期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小时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分钟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秒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返回完整的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6179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矩形 161794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日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小时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分钟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月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秒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完整的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Year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改变年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16281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矩形 162818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月份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日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--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星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-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小时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2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分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秒数为  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毫秒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99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16486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矩形 164866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用户自定义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实际应用应用中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供的内置对象往往不能满足用户的需求，因此，常常需要建立用户自定义对象。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是一组经过组织的数据，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每一个对象都有两个相关的成员，即属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operty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和方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etho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建立自定义对象就是为对象定义属性和方法，其步骤是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写一个构造函数来定义对象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为对象类定义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为对象类定义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先将方法的名称放到对象的构造函数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写一个函数来描述该对象方法的内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利用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创建对象实例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Object Instanc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举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6588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矩形 165890"/>
          <p:cNvSpPr/>
          <p:nvPr/>
        </p:nvSpPr>
        <p:spPr>
          <a:xfrm>
            <a:off x="395280" y="1052640"/>
            <a:ext cx="8353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作业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利用日期对象，对不同的进站时间，显示不同的提示信息。比如，上午六点到下午六点，显示“将有限的时间用在作最有意义的事”；其他时间显示“现在是休息时间”。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检测用户输入的邮件格式是否正确。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用户进入时，显示“欢迎您进入本网站！”；离开时，显示“谢谢您，欢迎下次再来！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欢迎您进入本网站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U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谢谢您，欢迎下次再来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16691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对象及其层次关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组合 166914"/>
          <p:cNvGrpSpPr/>
          <p:nvPr/>
        </p:nvGrpSpPr>
        <p:grpSpPr>
          <a:xfrm>
            <a:off x="2411280" y="2349360"/>
            <a:ext cx="2909880" cy="1257120"/>
            <a:chOff x="2411280" y="2349360"/>
            <a:chExt cx="2909880" cy="1257120"/>
          </a:xfrm>
        </p:grpSpPr>
        <p:sp>
          <p:nvSpPr>
            <p:cNvPr id="279" name="文本框 166915"/>
            <p:cNvSpPr/>
            <p:nvPr/>
          </p:nvSpPr>
          <p:spPr>
            <a:xfrm>
              <a:off x="2411280" y="282096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文本框 166916"/>
            <p:cNvSpPr/>
            <p:nvPr/>
          </p:nvSpPr>
          <p:spPr>
            <a:xfrm>
              <a:off x="4230000" y="234936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ug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文本框 166917"/>
            <p:cNvSpPr/>
            <p:nvPr/>
          </p:nvSpPr>
          <p:spPr>
            <a:xfrm>
              <a:off x="4230000" y="3292200"/>
              <a:ext cx="1091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eTyp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直接连接符 166918"/>
            <p:cNvSpPr/>
            <p:nvPr/>
          </p:nvSpPr>
          <p:spPr>
            <a:xfrm>
              <a:off x="3866400" y="2506320"/>
              <a:ext cx="0" cy="942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直接连接符 166919"/>
            <p:cNvSpPr/>
            <p:nvPr/>
          </p:nvSpPr>
          <p:spPr>
            <a:xfrm>
              <a:off x="3868200" y="2506320"/>
              <a:ext cx="356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直接连接符 166920"/>
            <p:cNvSpPr/>
            <p:nvPr/>
          </p:nvSpPr>
          <p:spPr>
            <a:xfrm>
              <a:off x="3868200" y="342864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直接连接符 166921"/>
            <p:cNvSpPr/>
            <p:nvPr/>
          </p:nvSpPr>
          <p:spPr>
            <a:xfrm>
              <a:off x="3495240" y="297504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6" name="文本框 166922"/>
          <p:cNvSpPr/>
          <p:nvPr/>
        </p:nvSpPr>
        <p:spPr>
          <a:xfrm>
            <a:off x="250920" y="2909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文本框 166923"/>
          <p:cNvSpPr/>
          <p:nvPr/>
        </p:nvSpPr>
        <p:spPr>
          <a:xfrm>
            <a:off x="2230560" y="1703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文本框 166924"/>
          <p:cNvSpPr/>
          <p:nvPr/>
        </p:nvSpPr>
        <p:spPr>
          <a:xfrm>
            <a:off x="2228760" y="244476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文本框 166925"/>
          <p:cNvSpPr/>
          <p:nvPr/>
        </p:nvSpPr>
        <p:spPr>
          <a:xfrm>
            <a:off x="2228760" y="321480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文本框 166926"/>
          <p:cNvSpPr/>
          <p:nvPr/>
        </p:nvSpPr>
        <p:spPr>
          <a:xfrm>
            <a:off x="2281320" y="404640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文本框 166927"/>
          <p:cNvSpPr/>
          <p:nvPr/>
        </p:nvSpPr>
        <p:spPr>
          <a:xfrm>
            <a:off x="4362480" y="479916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文本框 166928"/>
          <p:cNvSpPr/>
          <p:nvPr/>
        </p:nvSpPr>
        <p:spPr>
          <a:xfrm>
            <a:off x="4365720" y="42861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文本框 166929"/>
          <p:cNvSpPr/>
          <p:nvPr/>
        </p:nvSpPr>
        <p:spPr>
          <a:xfrm>
            <a:off x="4362480" y="38019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文本框 166930"/>
          <p:cNvSpPr/>
          <p:nvPr/>
        </p:nvSpPr>
        <p:spPr>
          <a:xfrm>
            <a:off x="4365720" y="3287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文本框 166931"/>
          <p:cNvSpPr/>
          <p:nvPr/>
        </p:nvSpPr>
        <p:spPr>
          <a:xfrm>
            <a:off x="4365720" y="27892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文本框 166932"/>
          <p:cNvSpPr/>
          <p:nvPr/>
        </p:nvSpPr>
        <p:spPr>
          <a:xfrm>
            <a:off x="4362480" y="23194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文本框 166933"/>
          <p:cNvSpPr/>
          <p:nvPr/>
        </p:nvSpPr>
        <p:spPr>
          <a:xfrm>
            <a:off x="4365720" y="185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文本框 166934"/>
          <p:cNvSpPr/>
          <p:nvPr/>
        </p:nvSpPr>
        <p:spPr>
          <a:xfrm>
            <a:off x="4351320" y="1397160"/>
            <a:ext cx="10908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文本框 166935"/>
          <p:cNvSpPr/>
          <p:nvPr/>
        </p:nvSpPr>
        <p:spPr>
          <a:xfrm>
            <a:off x="6234120" y="45277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文本框 166936"/>
          <p:cNvSpPr/>
          <p:nvPr/>
        </p:nvSpPr>
        <p:spPr>
          <a:xfrm>
            <a:off x="6235560" y="40132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文本框 166937"/>
          <p:cNvSpPr/>
          <p:nvPr/>
        </p:nvSpPr>
        <p:spPr>
          <a:xfrm>
            <a:off x="6234120" y="35290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文本框 166938"/>
          <p:cNvSpPr/>
          <p:nvPr/>
        </p:nvSpPr>
        <p:spPr>
          <a:xfrm>
            <a:off x="6235560" y="301608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文本框 166939"/>
          <p:cNvSpPr/>
          <p:nvPr/>
        </p:nvSpPr>
        <p:spPr>
          <a:xfrm>
            <a:off x="6235560" y="251604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文本框 166940"/>
          <p:cNvSpPr/>
          <p:nvPr/>
        </p:nvSpPr>
        <p:spPr>
          <a:xfrm>
            <a:off x="6234120" y="2060640"/>
            <a:ext cx="136224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Up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文本框 166941"/>
          <p:cNvSpPr/>
          <p:nvPr/>
        </p:nvSpPr>
        <p:spPr>
          <a:xfrm>
            <a:off x="6235560" y="158256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文本框 166942"/>
          <p:cNvSpPr/>
          <p:nvPr/>
        </p:nvSpPr>
        <p:spPr>
          <a:xfrm>
            <a:off x="6221520" y="112536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文本框 166943"/>
          <p:cNvSpPr/>
          <p:nvPr/>
        </p:nvSpPr>
        <p:spPr>
          <a:xfrm>
            <a:off x="6234120" y="5978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文本框 166944"/>
          <p:cNvSpPr/>
          <p:nvPr/>
        </p:nvSpPr>
        <p:spPr>
          <a:xfrm>
            <a:off x="6235560" y="54658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文本框 166945"/>
          <p:cNvSpPr/>
          <p:nvPr/>
        </p:nvSpPr>
        <p:spPr>
          <a:xfrm>
            <a:off x="6234120" y="49816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直接连接符 166946"/>
          <p:cNvSpPr/>
          <p:nvPr/>
        </p:nvSpPr>
        <p:spPr>
          <a:xfrm>
            <a:off x="1879560" y="1854360"/>
            <a:ext cx="0" cy="2373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直接连接符 166947"/>
          <p:cNvSpPr/>
          <p:nvPr/>
        </p:nvSpPr>
        <p:spPr>
          <a:xfrm>
            <a:off x="1379520" y="30639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直接连接符 166948"/>
          <p:cNvSpPr/>
          <p:nvPr/>
        </p:nvSpPr>
        <p:spPr>
          <a:xfrm>
            <a:off x="1879560" y="187020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直接连接符 166949"/>
          <p:cNvSpPr/>
          <p:nvPr/>
        </p:nvSpPr>
        <p:spPr>
          <a:xfrm>
            <a:off x="1879560" y="25956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直接连接符 166950"/>
          <p:cNvSpPr/>
          <p:nvPr/>
        </p:nvSpPr>
        <p:spPr>
          <a:xfrm>
            <a:off x="1879560" y="33670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直接连接符 166951"/>
          <p:cNvSpPr/>
          <p:nvPr/>
        </p:nvSpPr>
        <p:spPr>
          <a:xfrm>
            <a:off x="1879560" y="419724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直接连接符 166952"/>
          <p:cNvSpPr/>
          <p:nvPr/>
        </p:nvSpPr>
        <p:spPr>
          <a:xfrm>
            <a:off x="3840120" y="1536840"/>
            <a:ext cx="0" cy="34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直接连接符 166953"/>
          <p:cNvSpPr/>
          <p:nvPr/>
        </p:nvSpPr>
        <p:spPr>
          <a:xfrm>
            <a:off x="3840120" y="499896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直接连接符 166954"/>
          <p:cNvSpPr/>
          <p:nvPr/>
        </p:nvSpPr>
        <p:spPr>
          <a:xfrm>
            <a:off x="3821040" y="44244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直接连接符 166955"/>
          <p:cNvSpPr/>
          <p:nvPr/>
        </p:nvSpPr>
        <p:spPr>
          <a:xfrm>
            <a:off x="3855960" y="39258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直接连接符 166956"/>
          <p:cNvSpPr/>
          <p:nvPr/>
        </p:nvSpPr>
        <p:spPr>
          <a:xfrm>
            <a:off x="3855960" y="34275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直接连接符 166957"/>
          <p:cNvSpPr/>
          <p:nvPr/>
        </p:nvSpPr>
        <p:spPr>
          <a:xfrm>
            <a:off x="3840120" y="29131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直接连接符 166958"/>
          <p:cNvSpPr/>
          <p:nvPr/>
        </p:nvSpPr>
        <p:spPr>
          <a:xfrm>
            <a:off x="3840120" y="24750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直接连接符 166959"/>
          <p:cNvSpPr/>
          <p:nvPr/>
        </p:nvSpPr>
        <p:spPr>
          <a:xfrm>
            <a:off x="3840120" y="19908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直接连接符 166960"/>
          <p:cNvSpPr/>
          <p:nvPr/>
        </p:nvSpPr>
        <p:spPr>
          <a:xfrm>
            <a:off x="3855960" y="1522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直接连接符 166961"/>
          <p:cNvSpPr/>
          <p:nvPr/>
        </p:nvSpPr>
        <p:spPr>
          <a:xfrm>
            <a:off x="3321000" y="26100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直接连接符 166962"/>
          <p:cNvSpPr/>
          <p:nvPr/>
        </p:nvSpPr>
        <p:spPr>
          <a:xfrm>
            <a:off x="5888160" y="1279440"/>
            <a:ext cx="0" cy="4915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直接连接符 166963"/>
          <p:cNvSpPr/>
          <p:nvPr/>
        </p:nvSpPr>
        <p:spPr>
          <a:xfrm>
            <a:off x="5888160" y="12794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直接连接符 166964"/>
          <p:cNvSpPr/>
          <p:nvPr/>
        </p:nvSpPr>
        <p:spPr>
          <a:xfrm>
            <a:off x="5907240" y="17478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直接连接符 166965"/>
          <p:cNvSpPr/>
          <p:nvPr/>
        </p:nvSpPr>
        <p:spPr>
          <a:xfrm>
            <a:off x="5888160" y="221760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直接连接符 166966"/>
          <p:cNvSpPr/>
          <p:nvPr/>
        </p:nvSpPr>
        <p:spPr>
          <a:xfrm>
            <a:off x="5907240" y="27003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直接连接符 166967"/>
          <p:cNvSpPr/>
          <p:nvPr/>
        </p:nvSpPr>
        <p:spPr>
          <a:xfrm>
            <a:off x="5872320" y="317016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直接连接符 166968"/>
          <p:cNvSpPr/>
          <p:nvPr/>
        </p:nvSpPr>
        <p:spPr>
          <a:xfrm>
            <a:off x="5888160" y="36990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直接连接符 166969"/>
          <p:cNvSpPr/>
          <p:nvPr/>
        </p:nvSpPr>
        <p:spPr>
          <a:xfrm>
            <a:off x="5888160" y="41972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直接连接符 166970"/>
          <p:cNvSpPr/>
          <p:nvPr/>
        </p:nvSpPr>
        <p:spPr>
          <a:xfrm>
            <a:off x="5872320" y="469728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直接连接符 166971"/>
          <p:cNvSpPr/>
          <p:nvPr/>
        </p:nvSpPr>
        <p:spPr>
          <a:xfrm>
            <a:off x="5888160" y="51498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直接连接符 166972"/>
          <p:cNvSpPr/>
          <p:nvPr/>
        </p:nvSpPr>
        <p:spPr>
          <a:xfrm>
            <a:off x="5888160" y="56196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直接连接符 166973"/>
          <p:cNvSpPr/>
          <p:nvPr/>
        </p:nvSpPr>
        <p:spPr>
          <a:xfrm>
            <a:off x="5872320" y="61642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直接连接符 166974"/>
          <p:cNvSpPr/>
          <p:nvPr/>
        </p:nvSpPr>
        <p:spPr>
          <a:xfrm>
            <a:off x="5495760" y="2943360"/>
            <a:ext cx="392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文本框 166975"/>
          <p:cNvSpPr/>
          <p:nvPr/>
        </p:nvSpPr>
        <p:spPr>
          <a:xfrm>
            <a:off x="7802640" y="599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直接连接符 166976"/>
          <p:cNvSpPr/>
          <p:nvPr/>
        </p:nvSpPr>
        <p:spPr>
          <a:xfrm>
            <a:off x="7315200" y="614844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167937"/>
          <p:cNvSpPr/>
          <p:nvPr/>
        </p:nvSpPr>
        <p:spPr>
          <a:xfrm>
            <a:off x="32400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顶层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表示浏览器所打开的窗口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指定窗口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打开当前窗口的窗口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中的顶级窗口：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前活动窗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例如：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n1.document.titl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广告窗口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elf.close()           opener.document.forms[0].user.valu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张永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文本框 1679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168961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的名字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判断窗口是否已经被关闭，返回布尔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包含当前文档的信息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ra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的框架对象数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数组索引值表示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histo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当前窗口最近浏览过的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所显示文档的完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L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的框架个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使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当前窗口的脚本所在的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l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当前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代表当前框架的最顶层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文本框 1689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69985"/>
          <p:cNvSpPr/>
          <p:nvPr/>
        </p:nvSpPr>
        <p:spPr>
          <a:xfrm>
            <a:off x="250920" y="981000"/>
            <a:ext cx="8569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efaultStatu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缺省的状态栏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atu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状态栏中的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crollbar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滚动条（包括水平和垂直滚动条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ol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工具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enuba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菜单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浏览器的地址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容区的高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内容区的宽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边界的高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窗口边界的宽度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XOffse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YOffse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文本框 1699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171009"/>
          <p:cNvSpPr/>
          <p:nvPr/>
        </p:nvSpPr>
        <p:spPr>
          <a:xfrm>
            <a:off x="250920" y="981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(URL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窗口名称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窗口规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新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关闭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To(x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将窗口移动至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坐标处，参数取绝对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调整窗口大小（往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往下），参数取相对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To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宽度，高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等待一段指定的毫秒数时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然后运行指令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m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定义的计时程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文本框 1710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7521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直接写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BODY&gt;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P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onmouseover="alert('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')"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鼠标移过来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P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文本框 107522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文本框 107523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文本框 172033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设置一个定时程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Interva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定义的计时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cus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将焦点移到此窗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lur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把焦点从指定窗口移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e()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进入客户端在浏览器上设置的主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op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停止加载网页内容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ack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历史记录的上一个网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rward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加载历史记录的下一个网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ler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传送警告信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nfirm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r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消息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户可以选择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如果用户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该方法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rompt(“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提示字符串”，默认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对话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户可向该框键入文本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并把键入的文本返回到脚本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文本框 1720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173057"/>
          <p:cNvSpPr/>
          <p:nvPr/>
        </p:nvSpPr>
        <p:spPr>
          <a:xfrm>
            <a:off x="1042920" y="981000"/>
            <a:ext cx="6626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Bl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DragDr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Foc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Lo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U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Re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文本框 1730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176129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它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一个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来存储客户端最近访问过的网页清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存储在记录清单中的网页数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rren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前网页的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下一个历史记录的网页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iou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上一个历史记录的网页地址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文本框 1761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177153"/>
          <p:cNvSpPr/>
          <p:nvPr/>
        </p:nvSpPr>
        <p:spPr>
          <a:xfrm>
            <a:off x="250920" y="98100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a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回到客户端查看过的上一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war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回到客户端查看过的下一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整数或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前往历史记录中的某个网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文本框 1771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文本框 177155"/>
          <p:cNvSpPr/>
          <p:nvPr/>
        </p:nvSpPr>
        <p:spPr>
          <a:xfrm>
            <a:off x="7596360" y="60213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17817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9" name="组合 178178"/>
          <p:cNvGrpSpPr/>
          <p:nvPr/>
        </p:nvGrpSpPr>
        <p:grpSpPr>
          <a:xfrm>
            <a:off x="611280" y="1484280"/>
            <a:ext cx="1224000" cy="2232000"/>
            <a:chOff x="611280" y="1484280"/>
            <a:chExt cx="1224000" cy="2232000"/>
          </a:xfrm>
        </p:grpSpPr>
        <p:sp>
          <p:nvSpPr>
            <p:cNvPr id="360" name="矩形 178179"/>
            <p:cNvSpPr/>
            <p:nvPr/>
          </p:nvSpPr>
          <p:spPr>
            <a:xfrm>
              <a:off x="611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文本框 178180"/>
            <p:cNvSpPr/>
            <p:nvPr/>
          </p:nvSpPr>
          <p:spPr>
            <a:xfrm>
              <a:off x="82692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2" name="组合 178181"/>
          <p:cNvGrpSpPr/>
          <p:nvPr/>
        </p:nvGrpSpPr>
        <p:grpSpPr>
          <a:xfrm>
            <a:off x="1979640" y="1484280"/>
            <a:ext cx="1224000" cy="2232000"/>
            <a:chOff x="1979640" y="1484280"/>
            <a:chExt cx="1224000" cy="2232000"/>
          </a:xfrm>
        </p:grpSpPr>
        <p:sp>
          <p:nvSpPr>
            <p:cNvPr id="363" name="矩形 178182"/>
            <p:cNvSpPr/>
            <p:nvPr/>
          </p:nvSpPr>
          <p:spPr>
            <a:xfrm>
              <a:off x="1979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文本框 178183"/>
            <p:cNvSpPr/>
            <p:nvPr/>
          </p:nvSpPr>
          <p:spPr>
            <a:xfrm>
              <a:off x="212400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5" name="组合 178184"/>
          <p:cNvGrpSpPr/>
          <p:nvPr/>
        </p:nvGrpSpPr>
        <p:grpSpPr>
          <a:xfrm>
            <a:off x="3348000" y="1484280"/>
            <a:ext cx="1224000" cy="2232000"/>
            <a:chOff x="3348000" y="1484280"/>
            <a:chExt cx="1224000" cy="2232000"/>
          </a:xfrm>
        </p:grpSpPr>
        <p:sp>
          <p:nvSpPr>
            <p:cNvPr id="366" name="矩形 178185"/>
            <p:cNvSpPr/>
            <p:nvPr/>
          </p:nvSpPr>
          <p:spPr>
            <a:xfrm>
              <a:off x="334800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文本框 178186"/>
            <p:cNvSpPr/>
            <p:nvPr/>
          </p:nvSpPr>
          <p:spPr>
            <a:xfrm>
              <a:off x="349236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8" name="组合 178187"/>
          <p:cNvGrpSpPr/>
          <p:nvPr/>
        </p:nvGrpSpPr>
        <p:grpSpPr>
          <a:xfrm>
            <a:off x="4714920" y="1484280"/>
            <a:ext cx="1224000" cy="2232000"/>
            <a:chOff x="4714920" y="1484280"/>
            <a:chExt cx="1224000" cy="2232000"/>
          </a:xfrm>
        </p:grpSpPr>
        <p:sp>
          <p:nvSpPr>
            <p:cNvPr id="369" name="矩形 178188"/>
            <p:cNvSpPr/>
            <p:nvPr/>
          </p:nvSpPr>
          <p:spPr>
            <a:xfrm>
              <a:off x="471492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文本框 178189"/>
            <p:cNvSpPr/>
            <p:nvPr/>
          </p:nvSpPr>
          <p:spPr>
            <a:xfrm>
              <a:off x="485928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组合 178190"/>
          <p:cNvGrpSpPr/>
          <p:nvPr/>
        </p:nvGrpSpPr>
        <p:grpSpPr>
          <a:xfrm>
            <a:off x="6083280" y="1484280"/>
            <a:ext cx="1224000" cy="2232000"/>
            <a:chOff x="6083280" y="1484280"/>
            <a:chExt cx="1224000" cy="2232000"/>
          </a:xfrm>
        </p:grpSpPr>
        <p:sp>
          <p:nvSpPr>
            <p:cNvPr id="372" name="矩形 178191"/>
            <p:cNvSpPr/>
            <p:nvPr/>
          </p:nvSpPr>
          <p:spPr>
            <a:xfrm>
              <a:off x="6083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文本框 178192"/>
            <p:cNvSpPr/>
            <p:nvPr/>
          </p:nvSpPr>
          <p:spPr>
            <a:xfrm>
              <a:off x="622764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4" name="组合 178193"/>
          <p:cNvGrpSpPr/>
          <p:nvPr/>
        </p:nvGrpSpPr>
        <p:grpSpPr>
          <a:xfrm>
            <a:off x="7451640" y="1484280"/>
            <a:ext cx="1224000" cy="2232000"/>
            <a:chOff x="7451640" y="1484280"/>
            <a:chExt cx="1224000" cy="2232000"/>
          </a:xfrm>
        </p:grpSpPr>
        <p:sp>
          <p:nvSpPr>
            <p:cNvPr id="375" name="矩形 178194"/>
            <p:cNvSpPr/>
            <p:nvPr/>
          </p:nvSpPr>
          <p:spPr>
            <a:xfrm>
              <a:off x="7451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文本框 178195"/>
            <p:cNvSpPr/>
            <p:nvPr/>
          </p:nvSpPr>
          <p:spPr>
            <a:xfrm>
              <a:off x="766764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文本框 178196"/>
          <p:cNvSpPr/>
          <p:nvPr/>
        </p:nvSpPr>
        <p:spPr>
          <a:xfrm>
            <a:off x="611280" y="4149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back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文本框 178197"/>
          <p:cNvSpPr/>
          <p:nvPr/>
        </p:nvSpPr>
        <p:spPr>
          <a:xfrm>
            <a:off x="611280" y="472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forward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文本框 178198"/>
          <p:cNvSpPr/>
          <p:nvPr/>
        </p:nvSpPr>
        <p:spPr>
          <a:xfrm>
            <a:off x="611280" y="537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go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文本框 178199"/>
          <p:cNvSpPr/>
          <p:nvPr/>
        </p:nvSpPr>
        <p:spPr>
          <a:xfrm>
            <a:off x="7020000" y="6093000"/>
            <a:ext cx="14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79201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特定窗口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信息。一个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格式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 // host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 / path # hash ?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中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信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主机名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通信端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路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定位锚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查询信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文本框 17920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80225"/>
          <p:cNvSpPr/>
          <p:nvPr/>
        </p:nvSpPr>
        <p:spPr>
          <a:xfrm>
            <a:off x="25092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定位锚点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主机名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通信协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以问号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开始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一部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于指定搜索信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文本框 18022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181249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load()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新加载（刷新）当前的网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lace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网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用特定的网页取代当前的网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文本框 18125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182273"/>
          <p:cNvSpPr/>
          <p:nvPr/>
        </p:nvSpPr>
        <p:spPr>
          <a:xfrm>
            <a:off x="250920" y="907920"/>
            <a:ext cx="85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每一个框架对象相当于窗口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WINDOW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因此框架对象可以使用窗口对象的所有属性和方法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文本框 18227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9" name="组合 182275"/>
          <p:cNvGrpSpPr/>
          <p:nvPr/>
        </p:nvGrpSpPr>
        <p:grpSpPr>
          <a:xfrm>
            <a:off x="3132000" y="1844640"/>
            <a:ext cx="4392360" cy="1728720"/>
            <a:chOff x="3132000" y="1844640"/>
            <a:chExt cx="4392360" cy="1728720"/>
          </a:xfrm>
        </p:grpSpPr>
        <p:sp>
          <p:nvSpPr>
            <p:cNvPr id="390" name="矩形 182276"/>
            <p:cNvSpPr/>
            <p:nvPr/>
          </p:nvSpPr>
          <p:spPr>
            <a:xfrm>
              <a:off x="3132000" y="2205000"/>
              <a:ext cx="439236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直接连接符 182277"/>
            <p:cNvSpPr/>
            <p:nvPr/>
          </p:nvSpPr>
          <p:spPr>
            <a:xfrm>
              <a:off x="3132000" y="2781360"/>
              <a:ext cx="4392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直接连接符 182278"/>
            <p:cNvSpPr/>
            <p:nvPr/>
          </p:nvSpPr>
          <p:spPr>
            <a:xfrm>
              <a:off x="4932000" y="278136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文本框 182279"/>
            <p:cNvSpPr/>
            <p:nvPr/>
          </p:nvSpPr>
          <p:spPr>
            <a:xfrm>
              <a:off x="5436720" y="2997000"/>
              <a:ext cx="17132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文本框 182280"/>
            <p:cNvSpPr/>
            <p:nvPr/>
          </p:nvSpPr>
          <p:spPr>
            <a:xfrm>
              <a:off x="4644720" y="2278080"/>
              <a:ext cx="13510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文本框 182281"/>
            <p:cNvSpPr/>
            <p:nvPr/>
          </p:nvSpPr>
          <p:spPr>
            <a:xfrm>
              <a:off x="3276360" y="2925720"/>
              <a:ext cx="13748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文本框 182282"/>
            <p:cNvSpPr/>
            <p:nvPr/>
          </p:nvSpPr>
          <p:spPr>
            <a:xfrm>
              <a:off x="4984560" y="1844640"/>
              <a:ext cx="8208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7" name="组合 182283"/>
          <p:cNvGrpSpPr/>
          <p:nvPr/>
        </p:nvGrpSpPr>
        <p:grpSpPr>
          <a:xfrm>
            <a:off x="3132000" y="4005360"/>
            <a:ext cx="4679640" cy="2519280"/>
            <a:chOff x="3132000" y="4005360"/>
            <a:chExt cx="4679640" cy="2519280"/>
          </a:xfrm>
        </p:grpSpPr>
        <p:sp>
          <p:nvSpPr>
            <p:cNvPr id="398" name="文本框 182284"/>
            <p:cNvSpPr/>
            <p:nvPr/>
          </p:nvSpPr>
          <p:spPr>
            <a:xfrm>
              <a:off x="3132000" y="4005360"/>
              <a:ext cx="197316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文本框 182285"/>
            <p:cNvSpPr/>
            <p:nvPr/>
          </p:nvSpPr>
          <p:spPr>
            <a:xfrm>
              <a:off x="5484600" y="4767120"/>
              <a:ext cx="23270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文本框 182286"/>
            <p:cNvSpPr/>
            <p:nvPr/>
          </p:nvSpPr>
          <p:spPr>
            <a:xfrm>
              <a:off x="5484600" y="5435640"/>
              <a:ext cx="23018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文本框 182287"/>
            <p:cNvSpPr/>
            <p:nvPr/>
          </p:nvSpPr>
          <p:spPr>
            <a:xfrm>
              <a:off x="5484600" y="6089040"/>
              <a:ext cx="232704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直接连接符 182288"/>
            <p:cNvSpPr/>
            <p:nvPr/>
          </p:nvSpPr>
          <p:spPr>
            <a:xfrm>
              <a:off x="4118400" y="4425120"/>
              <a:ext cx="0" cy="189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直接连接符 182289"/>
            <p:cNvSpPr/>
            <p:nvPr/>
          </p:nvSpPr>
          <p:spPr>
            <a:xfrm>
              <a:off x="4118400" y="62755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直接连接符 182290"/>
            <p:cNvSpPr/>
            <p:nvPr/>
          </p:nvSpPr>
          <p:spPr>
            <a:xfrm>
              <a:off x="4118400" y="565344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直接连接符 182291"/>
            <p:cNvSpPr/>
            <p:nvPr/>
          </p:nvSpPr>
          <p:spPr>
            <a:xfrm>
              <a:off x="4118400" y="49849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6" name="文本框 182292"/>
          <p:cNvSpPr/>
          <p:nvPr/>
        </p:nvSpPr>
        <p:spPr>
          <a:xfrm>
            <a:off x="324000" y="1916280"/>
            <a:ext cx="856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组的结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文本框 182293"/>
          <p:cNvSpPr/>
          <p:nvPr/>
        </p:nvSpPr>
        <p:spPr>
          <a:xfrm>
            <a:off x="250920" y="4149720"/>
            <a:ext cx="29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组的层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0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183297"/>
          <p:cNvSpPr/>
          <p:nvPr/>
        </p:nvSpPr>
        <p:spPr>
          <a:xfrm>
            <a:off x="250920" y="90792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框架的引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left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up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down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2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文本框 18329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08545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放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cript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document.write("</a:t>
            </a:r>
            <a:r>
              <a:rPr b="0" lang="zh-CN" sz="3200" spc="-1" strike="noStrike">
                <a:solidFill>
                  <a:srgbClr val="e33e1d"/>
                </a:solidFill>
                <a:latin typeface="Times New Roman"/>
                <a:ea typeface="宋体"/>
              </a:rPr>
              <a:t>欢迎您学习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JavaScript!"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文本框 108546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文本框 108547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文本框 184321"/>
          <p:cNvSpPr/>
          <p:nvPr/>
        </p:nvSpPr>
        <p:spPr>
          <a:xfrm>
            <a:off x="324000" y="1197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ocument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代表当前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是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的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为每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建立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对象，用来显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文本框 18432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文本框 185345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的一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A HREF=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的所有链接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活动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LINK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指向已点击过的超链接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中的所有表单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文本框 18534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本框 186369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所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nchor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所有锚点，以数组索引值表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背景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BGCOLOR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中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特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oki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存储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kie.t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件内的一段信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它是该文档对象的一个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该文件的网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itl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的标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(TITLE&gt;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astModifi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档最后的修改日期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文本框 18637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文本框 187393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rit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字符串或数值写到文件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etSelection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取得当前选取的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测试文件对象的颜色属性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5"/>
              </a:rPr>
              <a:t>网页修改日期时间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文本框 18739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188417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当文档中包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A&g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自动建立相对应的锚点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chor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属性，搭配数组的索引方式来进行访问控制。例如：文件中的第一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0]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1]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文本框 1884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本框 189441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锚点的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文本框 18944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文本框 190465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无论是文字、图形或图像映射，只要是用来作为超级链接用的对象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相对应的链接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，搭配数组的索引方式来进行访问控制。例如：文件中的第一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第二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依次类推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文本框 19046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191489"/>
          <p:cNvSpPr/>
          <p:nvPr/>
        </p:nvSpPr>
        <p:spPr>
          <a:xfrm>
            <a:off x="250920" y="90792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中锚点的名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主机域名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地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目录路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ath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文本框 19149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192513"/>
          <p:cNvSpPr/>
          <p:nvPr/>
        </p:nvSpPr>
        <p:spPr>
          <a:xfrm>
            <a:off x="250920" y="907920"/>
            <a:ext cx="8893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通信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ort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通信协议部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当中的查询字符串部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arg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表目标的窗口，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文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4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6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文本框 19251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文本框 193537"/>
          <p:cNvSpPr/>
          <p:nvPr/>
        </p:nvSpPr>
        <p:spPr>
          <a:xfrm>
            <a:off x="468360" y="1125360"/>
            <a:ext cx="83516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文件中包含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相对应的图像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，搭配数组的索引方式来进行访问控制。例如：文件中的第一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第二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文本框 19353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10593"/>
          <p:cNvSpPr/>
          <p:nvPr/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将代码独立存储为以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js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为扩展名的文件，利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将该文件调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src="welcome.js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elcome.j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文件内容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document.write("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"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文本框 110594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文本框 110595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文本框 194561"/>
          <p:cNvSpPr/>
          <p:nvPr/>
        </p:nvSpPr>
        <p:spPr>
          <a:xfrm>
            <a:off x="25092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建立图像对象：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ew image(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宽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]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高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orde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边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RD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id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宽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eigh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高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水平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垂直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ow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图像的第分辨率版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mplet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示浏览器是否完成了图像的加载，一个布尔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Ab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rro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Lo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文本框 19456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文本框 19558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文本框 19558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文本框 19660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文本框 19661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19763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文本框 19763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19865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文本框 19865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文本框 19968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文本框 19968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20070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文本框 20070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201729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文本框 20173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文本框 20275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文本框 20275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文本框 20377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文本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文本框 20377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11617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为避免某些浏览器不完全支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而造成错误，可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代码用注释语句括起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 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!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-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文本框 111618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文本框 111619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文本框 204801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文本框 20480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205825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TITLE&gt;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单行文本范例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FORM name=form1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姓名：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text" NAME="name1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button" VALUE="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请单击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Click=alert(form1.name1.value + "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，谢谢你！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")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FORM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                                         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文本框 20582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文本框 206849"/>
          <p:cNvSpPr/>
          <p:nvPr/>
        </p:nvSpPr>
        <p:spPr>
          <a:xfrm>
            <a:off x="684360" y="1052640"/>
            <a:ext cx="7958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wor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密码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其引用方法与单行文本相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文本框 206850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密码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文本框 207873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文本框 20787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208897"/>
          <p:cNvSpPr/>
          <p:nvPr/>
        </p:nvSpPr>
        <p:spPr>
          <a:xfrm>
            <a:off x="539640" y="907920"/>
            <a:ext cx="8353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上显示的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文本框 20889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文本框 209921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提交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文本框 20992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提交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文本框 210945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时，自动建立一个重置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文本框 210946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重置按钮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文本框 212993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TEXTAREA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标记时，自动建立一个文本区域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文本框 212994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214017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文本框 214018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215041"/>
          <p:cNvSpPr/>
          <p:nvPr/>
        </p:nvSpPr>
        <p:spPr>
          <a:xfrm>
            <a:off x="1187280" y="907920"/>
            <a:ext cx="7705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ahoma"/>
                <a:ea typeface="宋体"/>
              </a:rPr>
              <a:t>例：多行文本对象示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多行文本对象示例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unction isTooLong(elm)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(elm.length &gt; 5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ert(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留言内容太长，请修改后再发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=open("","","300,300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.document.write(elm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FORM onSubmit="return isTooLong(this.msg.value)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TEXTAREA NAME="msg" COLS="30" ROWS="5"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Focus="this.value=''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欢迎留言，不过请长话短说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&lt;/textarea&gt;&lt;B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INPUT TYPE="submit" VALUE=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留言完毕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1"/>
              </a:rPr>
              <a:t>运行结果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文本框 215042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3:33:05Z</dcterms:created>
  <dc:creator>zyl</dc:creator>
  <dc:description/>
  <dc:language>en-US</dc:language>
  <cp:lastModifiedBy>コミとと</cp:lastModifiedBy>
  <dcterms:modified xsi:type="dcterms:W3CDTF">2019-10-07T10:55:52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Version">
    <vt:r8>5</vt:r8>
  </property>
</Properties>
</file>